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233-F8B0-47ED-8B3A-7EF64C18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7CB-84C9-4543-9F82-9DB36550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26C-E822-457F-B4E6-A7A7BCF2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AFC-845C-431F-A71C-AEF62666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92F-C095-46C8-AA5A-54928FC6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12E-588F-44E7-BCCB-4616DE80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B17-3EEB-4BCF-9003-3B816D8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4C7-81C5-4688-AA1A-A8AFAD25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D66-7E6D-4A01-A364-F982BC81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221-6F71-4445-ADD5-D1A3E6E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7F8-953E-41AD-BB8F-03434C4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5CA-C480-49E6-AC8F-79116A7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5C7E-1479-4025-8393-FE775A509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9047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2057400"/>
                <a:ext cx="838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5877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11280" y="3733920"/>
                <a:ext cx="7891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527120" y="4589640"/>
            <a:ext cx="187560" cy="285480"/>
          </a:xfrm>
          <a:custGeom>
            <a:avLst/>
            <a:gdLst/>
            <a:ahLst/>
            <a:rect l="l" t="t" r="r" b="b"/>
            <a:pathLst>
              <a:path w="521" h="794">
                <a:moveTo>
                  <a:pt x="4688" y="12824"/>
                </a:moveTo>
                <a:cubicBezTo>
                  <a:pt x="4597" y="12733"/>
                  <a:pt x="4511" y="12726"/>
                  <a:pt x="4390" y="12799"/>
                </a:cubicBezTo>
                <a:cubicBezTo>
                  <a:pt x="4294" y="12857"/>
                  <a:pt x="4202" y="12981"/>
                  <a:pt x="4266" y="13097"/>
                </a:cubicBezTo>
                <a:cubicBezTo>
                  <a:pt x="4332" y="13217"/>
                  <a:pt x="4557" y="13212"/>
                  <a:pt x="4663" y="13295"/>
                </a:cubicBezTo>
                <a:cubicBezTo>
                  <a:pt x="4731" y="13363"/>
                  <a:pt x="4753" y="13379"/>
                  <a:pt x="4762" y="13444"/>
                </a:cubicBezTo>
                <a:cubicBezTo>
                  <a:pt x="4689" y="13526"/>
                  <a:pt x="4585" y="13627"/>
                  <a:pt x="4539" y="13444"/>
                </a:cubicBezTo>
                <a:cubicBezTo>
                  <a:pt x="4503" y="13299"/>
                  <a:pt x="4646" y="13171"/>
                  <a:pt x="4688" y="13047"/>
                </a:cubicBezTo>
                <a:cubicBezTo>
                  <a:pt x="4712" y="12975"/>
                  <a:pt x="4713" y="12988"/>
                  <a:pt x="4663" y="12948"/>
                </a:cubicBezTo>
              </a:path>
              <a:path w="521" h="794">
                <a:moveTo>
                  <a:pt x="4688" y="12898"/>
                </a:moveTo>
                <a:cubicBezTo>
                  <a:pt x="4688" y="12847"/>
                  <a:pt x="4689" y="12832"/>
                  <a:pt x="4713" y="1289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4280" y="3884760"/>
            <a:ext cx="536760" cy="465120"/>
          </a:xfrm>
          <a:custGeom>
            <a:avLst/>
            <a:gdLst/>
            <a:ahLst/>
            <a:rect l="l" t="t" r="r" b="b"/>
            <a:pathLst>
              <a:path w="1490" h="1291">
                <a:moveTo>
                  <a:pt x="4167" y="11361"/>
                </a:moveTo>
                <a:cubicBezTo>
                  <a:pt x="4167" y="11467"/>
                  <a:pt x="4228" y="11486"/>
                  <a:pt x="4266" y="11584"/>
                </a:cubicBezTo>
              </a:path>
              <a:path w="1490" h="1291">
                <a:moveTo>
                  <a:pt x="4291" y="11311"/>
                </a:moveTo>
                <a:cubicBezTo>
                  <a:pt x="4264" y="11408"/>
                  <a:pt x="4227" y="11512"/>
                  <a:pt x="4192" y="11609"/>
                </a:cubicBezTo>
              </a:path>
              <a:path w="1490" h="1291">
                <a:moveTo>
                  <a:pt x="3671" y="11683"/>
                </a:moveTo>
                <a:cubicBezTo>
                  <a:pt x="3688" y="11666"/>
                  <a:pt x="3704" y="11650"/>
                  <a:pt x="3721" y="11633"/>
                </a:cubicBezTo>
                <a:cubicBezTo>
                  <a:pt x="3730" y="11812"/>
                  <a:pt x="3689" y="11806"/>
                  <a:pt x="3621" y="11956"/>
                </a:cubicBezTo>
                <a:cubicBezTo>
                  <a:pt x="3587" y="12031"/>
                  <a:pt x="3809" y="11910"/>
                  <a:pt x="3820" y="11906"/>
                </a:cubicBezTo>
              </a:path>
              <a:path w="1490" h="1291">
                <a:moveTo>
                  <a:pt x="3522" y="11485"/>
                </a:moveTo>
                <a:cubicBezTo>
                  <a:pt x="3580" y="11459"/>
                  <a:pt x="3638" y="11436"/>
                  <a:pt x="3696" y="11410"/>
                </a:cubicBezTo>
              </a:path>
              <a:path w="1490" h="1291">
                <a:moveTo>
                  <a:pt x="3473" y="11063"/>
                </a:moveTo>
                <a:cubicBezTo>
                  <a:pt x="3481" y="11046"/>
                  <a:pt x="3489" y="11030"/>
                  <a:pt x="3497" y="11013"/>
                </a:cubicBezTo>
                <a:cubicBezTo>
                  <a:pt x="3618" y="11043"/>
                  <a:pt x="3598" y="11080"/>
                  <a:pt x="3547" y="11187"/>
                </a:cubicBezTo>
                <a:cubicBezTo>
                  <a:pt x="3506" y="11273"/>
                  <a:pt x="3499" y="11297"/>
                  <a:pt x="3621" y="11237"/>
                </a:cubicBezTo>
                <a:cubicBezTo>
                  <a:pt x="3629" y="11229"/>
                  <a:pt x="3638" y="11220"/>
                  <a:pt x="3646" y="11212"/>
                </a:cubicBezTo>
              </a:path>
              <a:path w="1490" h="1291">
                <a:moveTo>
                  <a:pt x="3547" y="11757"/>
                </a:moveTo>
                <a:cubicBezTo>
                  <a:pt x="3709" y="11772"/>
                  <a:pt x="3840" y="11837"/>
                  <a:pt x="3994" y="11881"/>
                </a:cubicBezTo>
                <a:cubicBezTo>
                  <a:pt x="4125" y="11918"/>
                  <a:pt x="4280" y="11964"/>
                  <a:pt x="4415" y="11981"/>
                </a:cubicBezTo>
                <a:cubicBezTo>
                  <a:pt x="4523" y="11995"/>
                  <a:pt x="4634" y="11994"/>
                  <a:pt x="4738" y="12030"/>
                </a:cubicBezTo>
                <a:cubicBezTo>
                  <a:pt x="4783" y="12046"/>
                  <a:pt x="4818" y="12061"/>
                  <a:pt x="4862" y="12080"/>
                </a:cubicBezTo>
              </a:path>
              <a:path w="1490" h="1291">
                <a:moveTo>
                  <a:pt x="3373" y="11311"/>
                </a:moveTo>
                <a:cubicBezTo>
                  <a:pt x="3541" y="11273"/>
                  <a:pt x="3702" y="11224"/>
                  <a:pt x="3870" y="11187"/>
                </a:cubicBezTo>
                <a:cubicBezTo>
                  <a:pt x="4035" y="11150"/>
                  <a:pt x="4209" y="11102"/>
                  <a:pt x="4366" y="11038"/>
                </a:cubicBezTo>
                <a:cubicBezTo>
                  <a:pt x="4478" y="10992"/>
                  <a:pt x="4582" y="10921"/>
                  <a:pt x="4688" y="10864"/>
                </a:cubicBezTo>
                <a:cubicBezTo>
                  <a:pt x="4746" y="10833"/>
                  <a:pt x="4803" y="10816"/>
                  <a:pt x="4862" y="1079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6120" y="3483000"/>
            <a:ext cx="250920" cy="241200"/>
          </a:xfrm>
          <a:custGeom>
            <a:avLst/>
            <a:gdLst/>
            <a:ahLst/>
            <a:rect l="l" t="t" r="r" b="b"/>
            <a:pathLst>
              <a:path w="696" h="671">
                <a:moveTo>
                  <a:pt x="4316" y="9773"/>
                </a:moveTo>
                <a:cubicBezTo>
                  <a:pt x="4275" y="9814"/>
                  <a:pt x="4272" y="9800"/>
                  <a:pt x="4316" y="9699"/>
                </a:cubicBezTo>
                <a:cubicBezTo>
                  <a:pt x="4509" y="9699"/>
                  <a:pt x="4648" y="9811"/>
                  <a:pt x="4564" y="10046"/>
                </a:cubicBezTo>
                <a:cubicBezTo>
                  <a:pt x="4493" y="10245"/>
                  <a:pt x="4294" y="10348"/>
                  <a:pt x="4093" y="10319"/>
                </a:cubicBezTo>
                <a:cubicBezTo>
                  <a:pt x="4076" y="10311"/>
                  <a:pt x="4060" y="10302"/>
                  <a:pt x="4043" y="10294"/>
                </a:cubicBezTo>
                <a:cubicBezTo>
                  <a:pt x="4022" y="10105"/>
                  <a:pt x="4241" y="10065"/>
                  <a:pt x="4415" y="10096"/>
                </a:cubicBezTo>
                <a:cubicBezTo>
                  <a:pt x="4586" y="10126"/>
                  <a:pt x="4643" y="10213"/>
                  <a:pt x="4713" y="1034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16080" y="3768840"/>
            <a:ext cx="1305000" cy="884160"/>
          </a:xfrm>
          <a:custGeom>
            <a:avLst/>
            <a:gdLst/>
            <a:ahLst/>
            <a:rect l="l" t="t" r="r" b="b"/>
            <a:pathLst>
              <a:path w="3622" h="2456">
                <a:moveTo>
                  <a:pt x="6623" y="11410"/>
                </a:moveTo>
                <a:cubicBezTo>
                  <a:pt x="6742" y="11438"/>
                  <a:pt x="6825" y="11422"/>
                  <a:pt x="6945" y="11410"/>
                </a:cubicBezTo>
              </a:path>
              <a:path w="3622" h="2456">
                <a:moveTo>
                  <a:pt x="6697" y="11609"/>
                </a:moveTo>
                <a:cubicBezTo>
                  <a:pt x="6808" y="11598"/>
                  <a:pt x="6915" y="11572"/>
                  <a:pt x="7020" y="11534"/>
                </a:cubicBezTo>
              </a:path>
              <a:path w="3622" h="2456">
                <a:moveTo>
                  <a:pt x="7813" y="10517"/>
                </a:moveTo>
                <a:cubicBezTo>
                  <a:pt x="7797" y="10501"/>
                  <a:pt x="7780" y="10484"/>
                  <a:pt x="7764" y="10468"/>
                </a:cubicBezTo>
              </a:path>
              <a:path w="3622" h="2456">
                <a:moveTo>
                  <a:pt x="7838" y="10542"/>
                </a:moveTo>
                <a:cubicBezTo>
                  <a:pt x="7988" y="10531"/>
                  <a:pt x="8134" y="10500"/>
                  <a:pt x="8285" y="10492"/>
                </a:cubicBezTo>
                <a:cubicBezTo>
                  <a:pt x="8252" y="10729"/>
                  <a:pt x="8140" y="10874"/>
                  <a:pt x="8037" y="11088"/>
                </a:cubicBezTo>
                <a:cubicBezTo>
                  <a:pt x="8037" y="11096"/>
                  <a:pt x="8037" y="11104"/>
                  <a:pt x="8037" y="11112"/>
                </a:cubicBezTo>
              </a:path>
              <a:path w="3622" h="2456">
                <a:moveTo>
                  <a:pt x="7665" y="11584"/>
                </a:moveTo>
                <a:cubicBezTo>
                  <a:pt x="7931" y="11418"/>
                  <a:pt x="8190" y="11382"/>
                  <a:pt x="8483" y="11286"/>
                </a:cubicBezTo>
                <a:cubicBezTo>
                  <a:pt x="8564" y="11246"/>
                  <a:pt x="8577" y="11230"/>
                  <a:pt x="8632" y="11237"/>
                </a:cubicBezTo>
              </a:path>
              <a:path w="3622" h="2456">
                <a:moveTo>
                  <a:pt x="8334" y="11559"/>
                </a:moveTo>
                <a:cubicBezTo>
                  <a:pt x="8145" y="11613"/>
                  <a:pt x="8067" y="11735"/>
                  <a:pt x="7962" y="11906"/>
                </a:cubicBezTo>
                <a:cubicBezTo>
                  <a:pt x="8077" y="12032"/>
                  <a:pt x="8270" y="12086"/>
                  <a:pt x="8285" y="12278"/>
                </a:cubicBezTo>
                <a:cubicBezTo>
                  <a:pt x="8277" y="12311"/>
                  <a:pt x="8268" y="12345"/>
                  <a:pt x="8260" y="12378"/>
                </a:cubicBezTo>
                <a:cubicBezTo>
                  <a:pt x="8148" y="12194"/>
                  <a:pt x="8269" y="11991"/>
                  <a:pt x="8310" y="11757"/>
                </a:cubicBezTo>
                <a:cubicBezTo>
                  <a:pt x="8310" y="11749"/>
                  <a:pt x="8310" y="11741"/>
                  <a:pt x="8310" y="11733"/>
                </a:cubicBezTo>
              </a:path>
              <a:path w="3622" h="2456">
                <a:moveTo>
                  <a:pt x="7516" y="12700"/>
                </a:moveTo>
                <a:cubicBezTo>
                  <a:pt x="7855" y="12864"/>
                  <a:pt x="8099" y="12973"/>
                  <a:pt x="8483" y="12874"/>
                </a:cubicBezTo>
                <a:cubicBezTo>
                  <a:pt x="8891" y="12768"/>
                  <a:pt x="9120" y="12521"/>
                  <a:pt x="9302" y="12154"/>
                </a:cubicBezTo>
                <a:cubicBezTo>
                  <a:pt x="9485" y="11785"/>
                  <a:pt x="9606" y="11344"/>
                  <a:pt x="9376" y="10964"/>
                </a:cubicBezTo>
                <a:cubicBezTo>
                  <a:pt x="9194" y="10663"/>
                  <a:pt x="8787" y="10555"/>
                  <a:pt x="8458" y="10517"/>
                </a:cubicBezTo>
                <a:cubicBezTo>
                  <a:pt x="8180" y="10485"/>
                  <a:pt x="7880" y="10532"/>
                  <a:pt x="7640" y="10666"/>
                </a:cubicBezTo>
                <a:cubicBezTo>
                  <a:pt x="7472" y="10760"/>
                  <a:pt x="7312" y="10943"/>
                  <a:pt x="7268" y="11137"/>
                </a:cubicBezTo>
                <a:cubicBezTo>
                  <a:pt x="7190" y="11482"/>
                  <a:pt x="7266" y="11848"/>
                  <a:pt x="7367" y="12179"/>
                </a:cubicBezTo>
                <a:cubicBezTo>
                  <a:pt x="7461" y="12486"/>
                  <a:pt x="7559" y="12748"/>
                  <a:pt x="7888" y="12849"/>
                </a:cubicBezTo>
                <a:cubicBezTo>
                  <a:pt x="8037" y="12870"/>
                  <a:pt x="8069" y="12879"/>
                  <a:pt x="8161" y="12874"/>
                </a:cubicBezTo>
              </a:path>
              <a:path w="3622" h="2456">
                <a:moveTo>
                  <a:pt x="5879" y="12601"/>
                </a:moveTo>
                <a:cubicBezTo>
                  <a:pt x="6002" y="12626"/>
                  <a:pt x="6371" y="12590"/>
                  <a:pt x="6251" y="12626"/>
                </a:cubicBezTo>
                <a:cubicBezTo>
                  <a:pt x="6051" y="12686"/>
                  <a:pt x="5825" y="12675"/>
                  <a:pt x="6176" y="12675"/>
                </a:cubicBezTo>
                <a:cubicBezTo>
                  <a:pt x="6242" y="12675"/>
                  <a:pt x="6243" y="12675"/>
                  <a:pt x="6127" y="12675"/>
                </a:cubicBezTo>
                <a:cubicBezTo>
                  <a:pt x="6069" y="12675"/>
                  <a:pt x="6011" y="12675"/>
                  <a:pt x="5953" y="12675"/>
                </a:cubicBezTo>
                <a:cubicBezTo>
                  <a:pt x="5739" y="12675"/>
                  <a:pt x="6109" y="12675"/>
                  <a:pt x="6127" y="12675"/>
                </a:cubicBezTo>
                <a:cubicBezTo>
                  <a:pt x="6218" y="12675"/>
                  <a:pt x="5862" y="12650"/>
                  <a:pt x="5953" y="12650"/>
                </a:cubicBezTo>
                <a:cubicBezTo>
                  <a:pt x="6027" y="12650"/>
                  <a:pt x="6102" y="12650"/>
                  <a:pt x="6176" y="12650"/>
                </a:cubicBezTo>
              </a:path>
              <a:path w="3622" h="2456">
                <a:moveTo>
                  <a:pt x="6077" y="12725"/>
                </a:moveTo>
                <a:cubicBezTo>
                  <a:pt x="6029" y="12749"/>
                  <a:pt x="6015" y="12758"/>
                  <a:pt x="5978" y="12750"/>
                </a:cubicBezTo>
                <a:cubicBezTo>
                  <a:pt x="6090" y="12702"/>
                  <a:pt x="6432" y="12733"/>
                  <a:pt x="6325" y="12675"/>
                </a:cubicBezTo>
                <a:cubicBezTo>
                  <a:pt x="6274" y="12647"/>
                  <a:pt x="5947" y="12682"/>
                  <a:pt x="5978" y="12675"/>
                </a:cubicBezTo>
                <a:cubicBezTo>
                  <a:pt x="6082" y="12650"/>
                  <a:pt x="6398" y="12690"/>
                  <a:pt x="6077" y="12650"/>
                </a:cubicBezTo>
                <a:cubicBezTo>
                  <a:pt x="5846" y="12650"/>
                  <a:pt x="6080" y="12650"/>
                  <a:pt x="6127" y="1265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90840" y="244620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6921" y="6796"/>
                </a:moveTo>
                <a:cubicBezTo>
                  <a:pt x="7007" y="6829"/>
                  <a:pt x="7054" y="6806"/>
                  <a:pt x="7144" y="679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6200" y="2536920"/>
            <a:ext cx="108000" cy="17280"/>
          </a:xfrm>
          <a:custGeom>
            <a:avLst/>
            <a:gdLst/>
            <a:ahLst/>
            <a:rect l="l" t="t" r="r" b="b"/>
            <a:pathLst>
              <a:path w="299" h="50">
                <a:moveTo>
                  <a:pt x="6796" y="7094"/>
                </a:moveTo>
                <a:cubicBezTo>
                  <a:pt x="6895" y="7071"/>
                  <a:pt x="6993" y="7059"/>
                  <a:pt x="7094" y="704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30680" y="2490840"/>
            <a:ext cx="206280" cy="250920"/>
          </a:xfrm>
          <a:custGeom>
            <a:avLst/>
            <a:gdLst/>
            <a:ahLst/>
            <a:rect l="l" t="t" r="r" b="b"/>
            <a:pathLst>
              <a:path w="572" h="695">
                <a:moveTo>
                  <a:pt x="7863" y="6945"/>
                </a:moveTo>
                <a:cubicBezTo>
                  <a:pt x="8030" y="6927"/>
                  <a:pt x="8190" y="6921"/>
                  <a:pt x="8359" y="6921"/>
                </a:cubicBezTo>
                <a:cubicBezTo>
                  <a:pt x="8384" y="6921"/>
                  <a:pt x="8409" y="6921"/>
                  <a:pt x="8434" y="6921"/>
                </a:cubicBezTo>
                <a:cubicBezTo>
                  <a:pt x="8396" y="7147"/>
                  <a:pt x="8261" y="7313"/>
                  <a:pt x="8161" y="7516"/>
                </a:cubicBezTo>
                <a:cubicBezTo>
                  <a:pt x="8141" y="7576"/>
                  <a:pt x="8142" y="7591"/>
                  <a:pt x="8111" y="761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03680" y="2411280"/>
            <a:ext cx="312480" cy="9720"/>
          </a:xfrm>
          <a:custGeom>
            <a:avLst/>
            <a:gdLst/>
            <a:ahLst/>
            <a:rect l="l" t="t" r="r" b="b"/>
            <a:pathLst>
              <a:path w="869" h="26">
                <a:moveTo>
                  <a:pt x="7789" y="6697"/>
                </a:moveTo>
                <a:cubicBezTo>
                  <a:pt x="8045" y="6725"/>
                  <a:pt x="8299" y="6722"/>
                  <a:pt x="8558" y="6722"/>
                </a:cubicBezTo>
                <a:cubicBezTo>
                  <a:pt x="8616" y="6722"/>
                  <a:pt x="8624" y="6722"/>
                  <a:pt x="8657" y="672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67040" y="2108160"/>
            <a:ext cx="160200" cy="214200"/>
          </a:xfrm>
          <a:custGeom>
            <a:avLst/>
            <a:gdLst/>
            <a:ahLst/>
            <a:rect l="l" t="t" r="r" b="b"/>
            <a:pathLst>
              <a:path w="448" h="596">
                <a:moveTo>
                  <a:pt x="8359" y="5854"/>
                </a:moveTo>
                <a:cubicBezTo>
                  <a:pt x="8255" y="5864"/>
                  <a:pt x="8070" y="5860"/>
                  <a:pt x="7987" y="5928"/>
                </a:cubicBezTo>
                <a:cubicBezTo>
                  <a:pt x="7926" y="5978"/>
                  <a:pt x="7962" y="6107"/>
                  <a:pt x="7962" y="6176"/>
                </a:cubicBezTo>
                <a:cubicBezTo>
                  <a:pt x="8074" y="6137"/>
                  <a:pt x="8260" y="6024"/>
                  <a:pt x="8359" y="6152"/>
                </a:cubicBezTo>
                <a:cubicBezTo>
                  <a:pt x="8527" y="6369"/>
                  <a:pt x="8275" y="6432"/>
                  <a:pt x="8111" y="6449"/>
                </a:cubicBezTo>
                <a:cubicBezTo>
                  <a:pt x="8020" y="6449"/>
                  <a:pt x="8012" y="6449"/>
                  <a:pt x="7962" y="644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33760" y="1839960"/>
            <a:ext cx="723960" cy="1044360"/>
          </a:xfrm>
          <a:custGeom>
            <a:avLst/>
            <a:gdLst/>
            <a:ahLst/>
            <a:rect l="l" t="t" r="r" b="b"/>
            <a:pathLst>
              <a:path w="2011" h="2903">
                <a:moveTo>
                  <a:pt x="8880" y="7516"/>
                </a:moveTo>
                <a:cubicBezTo>
                  <a:pt x="9012" y="7405"/>
                  <a:pt x="9096" y="7298"/>
                  <a:pt x="9178" y="7144"/>
                </a:cubicBezTo>
                <a:cubicBezTo>
                  <a:pt x="9348" y="6823"/>
                  <a:pt x="9351" y="6500"/>
                  <a:pt x="9277" y="6152"/>
                </a:cubicBezTo>
                <a:cubicBezTo>
                  <a:pt x="9229" y="5926"/>
                  <a:pt x="9190" y="5649"/>
                  <a:pt x="9054" y="5457"/>
                </a:cubicBezTo>
                <a:cubicBezTo>
                  <a:pt x="8966" y="5333"/>
                  <a:pt x="8786" y="5140"/>
                  <a:pt x="8632" y="5110"/>
                </a:cubicBezTo>
                <a:cubicBezTo>
                  <a:pt x="8390" y="5063"/>
                  <a:pt x="8060" y="5206"/>
                  <a:pt x="7863" y="5333"/>
                </a:cubicBezTo>
                <a:cubicBezTo>
                  <a:pt x="7615" y="5493"/>
                  <a:pt x="7518" y="5792"/>
                  <a:pt x="7417" y="6052"/>
                </a:cubicBezTo>
                <a:cubicBezTo>
                  <a:pt x="7289" y="6382"/>
                  <a:pt x="7301" y="6723"/>
                  <a:pt x="7342" y="7069"/>
                </a:cubicBezTo>
                <a:cubicBezTo>
                  <a:pt x="7372" y="7320"/>
                  <a:pt x="7460" y="7585"/>
                  <a:pt x="7615" y="7789"/>
                </a:cubicBezTo>
                <a:cubicBezTo>
                  <a:pt x="7742" y="7956"/>
                  <a:pt x="8009" y="8015"/>
                  <a:pt x="8210" y="8012"/>
                </a:cubicBezTo>
                <a:cubicBezTo>
                  <a:pt x="8567" y="8006"/>
                  <a:pt x="8840" y="7784"/>
                  <a:pt x="9079" y="7541"/>
                </a:cubicBezTo>
                <a:cubicBezTo>
                  <a:pt x="9185" y="7413"/>
                  <a:pt x="9214" y="7389"/>
                  <a:pt x="9252" y="729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ding mixed numbe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ck before you att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34960" y="2743200"/>
                <a:ext cx="1092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446120" y="4435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08400" y="2689200"/>
                <a:ext cx="1136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875880" y="4363920"/>
            <a:ext cx="690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r sum has an improper fraction, rename it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xed number and regroup the whole numb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whole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1760" y="2224080"/>
            <a:ext cx="1384200" cy="1776600"/>
          </a:xfrm>
          <a:custGeom>
            <a:avLst/>
            <a:gdLst/>
            <a:ahLst/>
            <a:rect l="l" t="t" r="r" b="b"/>
            <a:pathLst>
              <a:path w="3846" h="4937">
                <a:moveTo>
                  <a:pt x="7615" y="6201"/>
                </a:moveTo>
                <a:cubicBezTo>
                  <a:pt x="7726" y="6180"/>
                  <a:pt x="7825" y="6176"/>
                  <a:pt x="7938" y="6176"/>
                </a:cubicBezTo>
                <a:cubicBezTo>
                  <a:pt x="8044" y="6176"/>
                  <a:pt x="8133" y="6186"/>
                  <a:pt x="8235" y="6201"/>
                </a:cubicBezTo>
                <a:cubicBezTo>
                  <a:pt x="8491" y="6238"/>
                  <a:pt x="8804" y="6208"/>
                  <a:pt x="9054" y="6176"/>
                </a:cubicBezTo>
                <a:cubicBezTo>
                  <a:pt x="9155" y="6163"/>
                  <a:pt x="9254" y="6188"/>
                  <a:pt x="9351" y="6201"/>
                </a:cubicBezTo>
                <a:cubicBezTo>
                  <a:pt x="9417" y="6210"/>
                  <a:pt x="9465" y="6196"/>
                  <a:pt x="9525" y="6176"/>
                </a:cubicBezTo>
              </a:path>
              <a:path w="3846" h="4937">
                <a:moveTo>
                  <a:pt x="8582" y="6921"/>
                </a:moveTo>
                <a:cubicBezTo>
                  <a:pt x="8603" y="7066"/>
                  <a:pt x="8594" y="7132"/>
                  <a:pt x="8533" y="7268"/>
                </a:cubicBezTo>
                <a:cubicBezTo>
                  <a:pt x="8525" y="7284"/>
                  <a:pt x="8516" y="7301"/>
                  <a:pt x="8508" y="7317"/>
                </a:cubicBezTo>
                <a:cubicBezTo>
                  <a:pt x="8667" y="7286"/>
                  <a:pt x="8768" y="7275"/>
                  <a:pt x="8930" y="7293"/>
                </a:cubicBezTo>
              </a:path>
              <a:path w="3846" h="4937">
                <a:moveTo>
                  <a:pt x="8880" y="6821"/>
                </a:moveTo>
                <a:cubicBezTo>
                  <a:pt x="8896" y="7028"/>
                  <a:pt x="8891" y="7210"/>
                  <a:pt x="8880" y="7417"/>
                </a:cubicBezTo>
                <a:cubicBezTo>
                  <a:pt x="8876" y="7488"/>
                  <a:pt x="8880" y="7567"/>
                  <a:pt x="8880" y="7640"/>
                </a:cubicBezTo>
              </a:path>
              <a:path w="3846" h="4937">
                <a:moveTo>
                  <a:pt x="9550" y="6524"/>
                </a:moveTo>
                <a:cubicBezTo>
                  <a:pt x="9580" y="6672"/>
                  <a:pt x="9575" y="6818"/>
                  <a:pt x="9575" y="6970"/>
                </a:cubicBezTo>
                <a:cubicBezTo>
                  <a:pt x="9575" y="6978"/>
                  <a:pt x="9575" y="6987"/>
                  <a:pt x="9575" y="6995"/>
                </a:cubicBezTo>
              </a:path>
              <a:path w="3846" h="4937">
                <a:moveTo>
                  <a:pt x="9351" y="7069"/>
                </a:moveTo>
                <a:cubicBezTo>
                  <a:pt x="9526" y="7085"/>
                  <a:pt x="9694" y="7069"/>
                  <a:pt x="9872" y="7069"/>
                </a:cubicBezTo>
                <a:cubicBezTo>
                  <a:pt x="9905" y="7069"/>
                  <a:pt x="9922" y="7069"/>
                  <a:pt x="9947" y="7069"/>
                </a:cubicBezTo>
              </a:path>
              <a:path w="3846" h="4937">
                <a:moveTo>
                  <a:pt x="9550" y="7317"/>
                </a:moveTo>
                <a:cubicBezTo>
                  <a:pt x="9569" y="7302"/>
                  <a:pt x="9817" y="7120"/>
                  <a:pt x="9823" y="7268"/>
                </a:cubicBezTo>
                <a:cubicBezTo>
                  <a:pt x="9828" y="7397"/>
                  <a:pt x="9715" y="7418"/>
                  <a:pt x="9624" y="7466"/>
                </a:cubicBezTo>
                <a:cubicBezTo>
                  <a:pt x="9717" y="7397"/>
                  <a:pt x="9742" y="7372"/>
                  <a:pt x="9823" y="7392"/>
                </a:cubicBezTo>
                <a:cubicBezTo>
                  <a:pt x="9882" y="7541"/>
                  <a:pt x="9884" y="7651"/>
                  <a:pt x="9723" y="7739"/>
                </a:cubicBezTo>
                <a:cubicBezTo>
                  <a:pt x="9619" y="7796"/>
                  <a:pt x="9556" y="7813"/>
                  <a:pt x="9500" y="7739"/>
                </a:cubicBezTo>
              </a:path>
              <a:path w="3846" h="4937">
                <a:moveTo>
                  <a:pt x="7938" y="8384"/>
                </a:moveTo>
                <a:cubicBezTo>
                  <a:pt x="7965" y="8479"/>
                  <a:pt x="7977" y="8581"/>
                  <a:pt x="7987" y="8682"/>
                </a:cubicBezTo>
              </a:path>
              <a:path w="3846" h="4937">
                <a:moveTo>
                  <a:pt x="7863" y="8533"/>
                </a:moveTo>
                <a:cubicBezTo>
                  <a:pt x="7974" y="8496"/>
                  <a:pt x="8042" y="8471"/>
                  <a:pt x="8161" y="8458"/>
                </a:cubicBezTo>
              </a:path>
              <a:path w="3846" h="4937">
                <a:moveTo>
                  <a:pt x="8682" y="8334"/>
                </a:moveTo>
                <a:cubicBezTo>
                  <a:pt x="8752" y="8240"/>
                  <a:pt x="8762" y="8251"/>
                  <a:pt x="8880" y="8235"/>
                </a:cubicBezTo>
                <a:cubicBezTo>
                  <a:pt x="8908" y="8334"/>
                  <a:pt x="8883" y="8581"/>
                  <a:pt x="8706" y="8582"/>
                </a:cubicBezTo>
                <a:cubicBezTo>
                  <a:pt x="8706" y="8566"/>
                  <a:pt x="8706" y="8549"/>
                  <a:pt x="8706" y="8533"/>
                </a:cubicBezTo>
                <a:cubicBezTo>
                  <a:pt x="8843" y="8516"/>
                  <a:pt x="9018" y="8518"/>
                  <a:pt x="8954" y="8731"/>
                </a:cubicBezTo>
                <a:cubicBezTo>
                  <a:pt x="8902" y="8903"/>
                  <a:pt x="8774" y="8923"/>
                  <a:pt x="8632" y="8880"/>
                </a:cubicBezTo>
              </a:path>
              <a:path w="3846" h="4937">
                <a:moveTo>
                  <a:pt x="9550" y="8037"/>
                </a:moveTo>
                <a:cubicBezTo>
                  <a:pt x="9583" y="8154"/>
                  <a:pt x="9591" y="8273"/>
                  <a:pt x="9624" y="8384"/>
                </a:cubicBezTo>
              </a:path>
              <a:path w="3846" h="4937">
                <a:moveTo>
                  <a:pt x="9426" y="8533"/>
                </a:moveTo>
                <a:cubicBezTo>
                  <a:pt x="9635" y="8504"/>
                  <a:pt x="9834" y="8483"/>
                  <a:pt x="10046" y="8483"/>
                </a:cubicBezTo>
              </a:path>
              <a:path w="3846" h="4937">
                <a:moveTo>
                  <a:pt x="9773" y="8706"/>
                </a:moveTo>
                <a:cubicBezTo>
                  <a:pt x="9859" y="8639"/>
                  <a:pt x="9991" y="8598"/>
                  <a:pt x="10096" y="8657"/>
                </a:cubicBezTo>
                <a:cubicBezTo>
                  <a:pt x="10267" y="8754"/>
                  <a:pt x="9993" y="8921"/>
                  <a:pt x="9922" y="8954"/>
                </a:cubicBezTo>
                <a:cubicBezTo>
                  <a:pt x="9914" y="8954"/>
                  <a:pt x="9905" y="8954"/>
                  <a:pt x="9897" y="8954"/>
                </a:cubicBezTo>
                <a:cubicBezTo>
                  <a:pt x="10028" y="8889"/>
                  <a:pt x="10133" y="8881"/>
                  <a:pt x="10244" y="8979"/>
                </a:cubicBezTo>
                <a:cubicBezTo>
                  <a:pt x="10149" y="9144"/>
                  <a:pt x="10061" y="9142"/>
                  <a:pt x="9872" y="9153"/>
                </a:cubicBezTo>
              </a:path>
              <a:path w="3846" h="4937">
                <a:moveTo>
                  <a:pt x="8533" y="9451"/>
                </a:moveTo>
                <a:cubicBezTo>
                  <a:pt x="8467" y="9451"/>
                  <a:pt x="8400" y="9451"/>
                  <a:pt x="8334" y="9451"/>
                </a:cubicBezTo>
                <a:cubicBezTo>
                  <a:pt x="8601" y="9369"/>
                  <a:pt x="8924" y="9353"/>
                  <a:pt x="9203" y="9327"/>
                </a:cubicBezTo>
                <a:cubicBezTo>
                  <a:pt x="9778" y="9274"/>
                  <a:pt x="10362" y="9302"/>
                  <a:pt x="10939" y="9302"/>
                </a:cubicBezTo>
                <a:cubicBezTo>
                  <a:pt x="11113" y="9302"/>
                  <a:pt x="11286" y="9302"/>
                  <a:pt x="11460" y="9302"/>
                </a:cubicBezTo>
              </a:path>
              <a:path w="3846" h="4937">
                <a:moveTo>
                  <a:pt x="9153" y="6325"/>
                </a:moveTo>
                <a:cubicBezTo>
                  <a:pt x="9153" y="6407"/>
                  <a:pt x="9175" y="6467"/>
                  <a:pt x="9178" y="6548"/>
                </a:cubicBezTo>
                <a:cubicBezTo>
                  <a:pt x="9182" y="6655"/>
                  <a:pt x="9186" y="6746"/>
                  <a:pt x="9203" y="6846"/>
                </a:cubicBezTo>
                <a:cubicBezTo>
                  <a:pt x="9219" y="6942"/>
                  <a:pt x="9214" y="7048"/>
                  <a:pt x="9227" y="7144"/>
                </a:cubicBezTo>
                <a:cubicBezTo>
                  <a:pt x="9253" y="7330"/>
                  <a:pt x="9227" y="7540"/>
                  <a:pt x="9252" y="7714"/>
                </a:cubicBezTo>
                <a:cubicBezTo>
                  <a:pt x="9271" y="7849"/>
                  <a:pt x="9264" y="8002"/>
                  <a:pt x="9277" y="8136"/>
                </a:cubicBezTo>
                <a:cubicBezTo>
                  <a:pt x="9284" y="8211"/>
                  <a:pt x="9293" y="8296"/>
                  <a:pt x="9302" y="8359"/>
                </a:cubicBezTo>
                <a:cubicBezTo>
                  <a:pt x="9312" y="8430"/>
                  <a:pt x="9320" y="8515"/>
                  <a:pt x="9327" y="8582"/>
                </a:cubicBezTo>
                <a:cubicBezTo>
                  <a:pt x="9334" y="8647"/>
                  <a:pt x="9349" y="8696"/>
                  <a:pt x="9351" y="8756"/>
                </a:cubicBezTo>
                <a:cubicBezTo>
                  <a:pt x="9354" y="8843"/>
                  <a:pt x="9372" y="8917"/>
                  <a:pt x="9376" y="9004"/>
                </a:cubicBezTo>
                <a:cubicBezTo>
                  <a:pt x="9379" y="9078"/>
                  <a:pt x="9389" y="9135"/>
                  <a:pt x="9401" y="9203"/>
                </a:cubicBezTo>
                <a:cubicBezTo>
                  <a:pt x="9406" y="9232"/>
                  <a:pt x="9401" y="9274"/>
                  <a:pt x="9401" y="9302"/>
                </a:cubicBezTo>
              </a:path>
              <a:path w="3846" h="4937">
                <a:moveTo>
                  <a:pt x="9723" y="9947"/>
                </a:moveTo>
                <a:cubicBezTo>
                  <a:pt x="9914" y="9933"/>
                  <a:pt x="10102" y="9885"/>
                  <a:pt x="10294" y="9872"/>
                </a:cubicBezTo>
                <a:cubicBezTo>
                  <a:pt x="10418" y="9872"/>
                  <a:pt x="10443" y="9872"/>
                  <a:pt x="10517" y="9872"/>
                </a:cubicBezTo>
              </a:path>
              <a:path w="3846" h="4937">
                <a:moveTo>
                  <a:pt x="10096" y="10145"/>
                </a:moveTo>
                <a:cubicBezTo>
                  <a:pt x="10158" y="10099"/>
                  <a:pt x="10224" y="10051"/>
                  <a:pt x="10269" y="10145"/>
                </a:cubicBezTo>
                <a:cubicBezTo>
                  <a:pt x="10312" y="10235"/>
                  <a:pt x="10276" y="10298"/>
                  <a:pt x="10220" y="10368"/>
                </a:cubicBezTo>
                <a:cubicBezTo>
                  <a:pt x="10269" y="10305"/>
                  <a:pt x="10399" y="10225"/>
                  <a:pt x="10418" y="10368"/>
                </a:cubicBezTo>
                <a:cubicBezTo>
                  <a:pt x="10433" y="10480"/>
                  <a:pt x="10313" y="10529"/>
                  <a:pt x="10220" y="10542"/>
                </a:cubicBezTo>
                <a:cubicBezTo>
                  <a:pt x="10212" y="10542"/>
                  <a:pt x="10203" y="10542"/>
                  <a:pt x="10195" y="10542"/>
                </a:cubicBezTo>
              </a:path>
              <a:path w="3846" h="4937">
                <a:moveTo>
                  <a:pt x="9872" y="9550"/>
                </a:moveTo>
                <a:cubicBezTo>
                  <a:pt x="9903" y="9495"/>
                  <a:pt x="9961" y="9402"/>
                  <a:pt x="10021" y="9376"/>
                </a:cubicBezTo>
                <a:cubicBezTo>
                  <a:pt x="10103" y="9340"/>
                  <a:pt x="10162" y="9392"/>
                  <a:pt x="10145" y="9475"/>
                </a:cubicBezTo>
                <a:cubicBezTo>
                  <a:pt x="10129" y="9557"/>
                  <a:pt x="10047" y="9600"/>
                  <a:pt x="10021" y="9674"/>
                </a:cubicBezTo>
                <a:cubicBezTo>
                  <a:pt x="10001" y="9732"/>
                  <a:pt x="10054" y="9815"/>
                  <a:pt x="9971" y="9773"/>
                </a:cubicBezTo>
                <a:cubicBezTo>
                  <a:pt x="10041" y="9657"/>
                  <a:pt x="10049" y="9731"/>
                  <a:pt x="10145" y="9748"/>
                </a:cubicBezTo>
                <a:cubicBezTo>
                  <a:pt x="10242" y="9765"/>
                  <a:pt x="10266" y="9740"/>
                  <a:pt x="10294" y="9674"/>
                </a:cubicBezTo>
              </a:path>
              <a:path w="3846" h="4937">
                <a:moveTo>
                  <a:pt x="9054" y="9798"/>
                </a:moveTo>
                <a:cubicBezTo>
                  <a:pt x="9014" y="9778"/>
                  <a:pt x="9234" y="9694"/>
                  <a:pt x="9277" y="9674"/>
                </a:cubicBezTo>
                <a:cubicBezTo>
                  <a:pt x="9362" y="9635"/>
                  <a:pt x="9398" y="9610"/>
                  <a:pt x="9475" y="9599"/>
                </a:cubicBezTo>
                <a:cubicBezTo>
                  <a:pt x="9428" y="9826"/>
                  <a:pt x="9464" y="10061"/>
                  <a:pt x="9451" y="10294"/>
                </a:cubicBezTo>
                <a:cubicBezTo>
                  <a:pt x="9443" y="10429"/>
                  <a:pt x="9426" y="10536"/>
                  <a:pt x="9426" y="10666"/>
                </a:cubicBezTo>
              </a:path>
              <a:path w="3846" h="4937">
                <a:moveTo>
                  <a:pt x="9178" y="10964"/>
                </a:moveTo>
                <a:cubicBezTo>
                  <a:pt x="9359" y="11008"/>
                  <a:pt x="9488" y="11011"/>
                  <a:pt x="9674" y="10988"/>
                </a:cubicBezTo>
                <a:cubicBezTo>
                  <a:pt x="10052" y="10941"/>
                  <a:pt x="10386" y="10801"/>
                  <a:pt x="10666" y="10542"/>
                </a:cubicBezTo>
                <a:cubicBezTo>
                  <a:pt x="10847" y="10374"/>
                  <a:pt x="10989" y="10227"/>
                  <a:pt x="11013" y="9971"/>
                </a:cubicBezTo>
                <a:cubicBezTo>
                  <a:pt x="11033" y="9759"/>
                  <a:pt x="10995" y="9572"/>
                  <a:pt x="10914" y="9376"/>
                </a:cubicBezTo>
                <a:cubicBezTo>
                  <a:pt x="10854" y="9231"/>
                  <a:pt x="10764" y="9175"/>
                  <a:pt x="10616" y="9153"/>
                </a:cubicBezTo>
                <a:cubicBezTo>
                  <a:pt x="10525" y="9139"/>
                  <a:pt x="10406" y="9162"/>
                  <a:pt x="10319" y="9178"/>
                </a:cubicBezTo>
                <a:cubicBezTo>
                  <a:pt x="10212" y="9198"/>
                  <a:pt x="10104" y="9230"/>
                  <a:pt x="9996" y="9252"/>
                </a:cubicBezTo>
                <a:cubicBezTo>
                  <a:pt x="9860" y="9280"/>
                  <a:pt x="9733" y="9282"/>
                  <a:pt x="9599" y="9302"/>
                </a:cubicBezTo>
                <a:cubicBezTo>
                  <a:pt x="9495" y="9318"/>
                  <a:pt x="9397" y="9330"/>
                  <a:pt x="9302" y="9376"/>
                </a:cubicBezTo>
                <a:cubicBezTo>
                  <a:pt x="9194" y="9428"/>
                  <a:pt x="9049" y="9502"/>
                  <a:pt x="8954" y="9575"/>
                </a:cubicBezTo>
                <a:cubicBezTo>
                  <a:pt x="8867" y="9642"/>
                  <a:pt x="8730" y="9696"/>
                  <a:pt x="8657" y="9773"/>
                </a:cubicBezTo>
                <a:cubicBezTo>
                  <a:pt x="8586" y="9848"/>
                  <a:pt x="8542" y="9976"/>
                  <a:pt x="8508" y="10071"/>
                </a:cubicBezTo>
                <a:cubicBezTo>
                  <a:pt x="8464" y="10195"/>
                  <a:pt x="8480" y="10318"/>
                  <a:pt x="8508" y="10443"/>
                </a:cubicBezTo>
                <a:cubicBezTo>
                  <a:pt x="8538" y="10576"/>
                  <a:pt x="8592" y="10650"/>
                  <a:pt x="8657" y="10765"/>
                </a:cubicBezTo>
                <a:cubicBezTo>
                  <a:pt x="8699" y="10839"/>
                  <a:pt x="8723" y="10901"/>
                  <a:pt x="8781" y="10964"/>
                </a:cubicBezTo>
                <a:cubicBezTo>
                  <a:pt x="8860" y="11050"/>
                  <a:pt x="8900" y="11081"/>
                  <a:pt x="9029" y="11088"/>
                </a:cubicBezTo>
                <a:cubicBezTo>
                  <a:pt x="9128" y="11094"/>
                  <a:pt x="9210" y="11091"/>
                  <a:pt x="9302" y="1111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69120" y="2419200"/>
            <a:ext cx="1847880" cy="1019160"/>
          </a:xfrm>
          <a:custGeom>
            <a:avLst/>
            <a:gdLst/>
            <a:ahLst/>
            <a:rect l="l" t="t" r="r" b="b"/>
            <a:pathLst>
              <a:path w="5136" h="2829">
                <a:moveTo>
                  <a:pt x="21034" y="7516"/>
                </a:moveTo>
                <a:cubicBezTo>
                  <a:pt x="21091" y="7607"/>
                  <a:pt x="21118" y="7661"/>
                  <a:pt x="21134" y="7764"/>
                </a:cubicBezTo>
              </a:path>
              <a:path w="5136" h="2829">
                <a:moveTo>
                  <a:pt x="21134" y="7441"/>
                </a:moveTo>
                <a:cubicBezTo>
                  <a:pt x="21094" y="7591"/>
                  <a:pt x="21059" y="7739"/>
                  <a:pt x="21010" y="7888"/>
                </a:cubicBezTo>
              </a:path>
              <a:path w="5136" h="2829">
                <a:moveTo>
                  <a:pt x="21258" y="7739"/>
                </a:moveTo>
                <a:cubicBezTo>
                  <a:pt x="21336" y="7749"/>
                  <a:pt x="21422" y="7747"/>
                  <a:pt x="21481" y="7764"/>
                </a:cubicBezTo>
                <a:cubicBezTo>
                  <a:pt x="21508" y="7897"/>
                  <a:pt x="21471" y="7935"/>
                  <a:pt x="21357" y="8012"/>
                </a:cubicBezTo>
                <a:cubicBezTo>
                  <a:pt x="21486" y="7968"/>
                  <a:pt x="21601" y="8041"/>
                  <a:pt x="21456" y="8161"/>
                </a:cubicBezTo>
                <a:cubicBezTo>
                  <a:pt x="21356" y="8244"/>
                  <a:pt x="21294" y="8179"/>
                  <a:pt x="21282" y="8086"/>
                </a:cubicBezTo>
              </a:path>
              <a:path w="5136" h="2829">
                <a:moveTo>
                  <a:pt x="21382" y="7714"/>
                </a:moveTo>
                <a:cubicBezTo>
                  <a:pt x="21382" y="7663"/>
                  <a:pt x="21380" y="7645"/>
                  <a:pt x="21332" y="7640"/>
                </a:cubicBezTo>
                <a:cubicBezTo>
                  <a:pt x="21423" y="7640"/>
                  <a:pt x="21514" y="7640"/>
                  <a:pt x="21605" y="7640"/>
                </a:cubicBezTo>
              </a:path>
              <a:path w="5136" h="2829">
                <a:moveTo>
                  <a:pt x="21406" y="7169"/>
                </a:moveTo>
                <a:cubicBezTo>
                  <a:pt x="21482" y="7134"/>
                  <a:pt x="21595" y="7118"/>
                  <a:pt x="21506" y="7243"/>
                </a:cubicBezTo>
                <a:cubicBezTo>
                  <a:pt x="21489" y="7260"/>
                  <a:pt x="21473" y="7276"/>
                  <a:pt x="21456" y="7293"/>
                </a:cubicBezTo>
                <a:cubicBezTo>
                  <a:pt x="21514" y="7293"/>
                  <a:pt x="21522" y="7293"/>
                  <a:pt x="21555" y="7293"/>
                </a:cubicBezTo>
                <a:cubicBezTo>
                  <a:pt x="21580" y="7390"/>
                  <a:pt x="21541" y="7440"/>
                  <a:pt x="21431" y="7466"/>
                </a:cubicBezTo>
                <a:cubicBezTo>
                  <a:pt x="21415" y="7466"/>
                  <a:pt x="21398" y="7466"/>
                  <a:pt x="21382" y="7466"/>
                </a:cubicBezTo>
              </a:path>
              <a:path w="5136" h="2829">
                <a:moveTo>
                  <a:pt x="21903" y="7640"/>
                </a:moveTo>
                <a:cubicBezTo>
                  <a:pt x="21965" y="7619"/>
                  <a:pt x="22008" y="7615"/>
                  <a:pt x="22076" y="7615"/>
                </a:cubicBezTo>
              </a:path>
              <a:path w="5136" h="2829">
                <a:moveTo>
                  <a:pt x="21853" y="7813"/>
                </a:moveTo>
                <a:cubicBezTo>
                  <a:pt x="21932" y="7808"/>
                  <a:pt x="21999" y="7800"/>
                  <a:pt x="22076" y="7789"/>
                </a:cubicBezTo>
              </a:path>
              <a:path w="5136" h="2829">
                <a:moveTo>
                  <a:pt x="22796" y="7838"/>
                </a:moveTo>
                <a:cubicBezTo>
                  <a:pt x="22712" y="7713"/>
                  <a:pt x="22652" y="7684"/>
                  <a:pt x="22547" y="7838"/>
                </a:cubicBezTo>
                <a:cubicBezTo>
                  <a:pt x="22503" y="7927"/>
                  <a:pt x="22487" y="7948"/>
                  <a:pt x="22498" y="8012"/>
                </a:cubicBezTo>
                <a:cubicBezTo>
                  <a:pt x="22586" y="8026"/>
                  <a:pt x="22731" y="8050"/>
                  <a:pt x="22771" y="7938"/>
                </a:cubicBezTo>
                <a:cubicBezTo>
                  <a:pt x="22771" y="7888"/>
                  <a:pt x="22771" y="7871"/>
                  <a:pt x="22771" y="7838"/>
                </a:cubicBezTo>
                <a:cubicBezTo>
                  <a:pt x="22771" y="8012"/>
                  <a:pt x="22771" y="8185"/>
                  <a:pt x="22771" y="8359"/>
                </a:cubicBezTo>
              </a:path>
              <a:path w="5136" h="2829">
                <a:moveTo>
                  <a:pt x="22448" y="7491"/>
                </a:moveTo>
                <a:cubicBezTo>
                  <a:pt x="22588" y="7521"/>
                  <a:pt x="22725" y="7516"/>
                  <a:pt x="22870" y="7516"/>
                </a:cubicBezTo>
              </a:path>
              <a:path w="5136" h="2829">
                <a:moveTo>
                  <a:pt x="22622" y="6722"/>
                </a:moveTo>
                <a:cubicBezTo>
                  <a:pt x="22589" y="6821"/>
                  <a:pt x="22572" y="6891"/>
                  <a:pt x="22572" y="6995"/>
                </a:cubicBezTo>
                <a:cubicBezTo>
                  <a:pt x="22572" y="7111"/>
                  <a:pt x="22557" y="7092"/>
                  <a:pt x="22647" y="7169"/>
                </a:cubicBezTo>
                <a:cubicBezTo>
                  <a:pt x="22698" y="7213"/>
                  <a:pt x="22730" y="7218"/>
                  <a:pt x="22796" y="7218"/>
                </a:cubicBezTo>
                <a:cubicBezTo>
                  <a:pt x="22854" y="7218"/>
                  <a:pt x="22922" y="7213"/>
                  <a:pt x="22944" y="7144"/>
                </a:cubicBezTo>
                <a:cubicBezTo>
                  <a:pt x="22967" y="7072"/>
                  <a:pt x="22875" y="7018"/>
                  <a:pt x="22820" y="7069"/>
                </a:cubicBezTo>
                <a:cubicBezTo>
                  <a:pt x="22774" y="7112"/>
                  <a:pt x="22796" y="7210"/>
                  <a:pt x="22796" y="7268"/>
                </a:cubicBezTo>
              </a:path>
              <a:path w="5136" h="2829">
                <a:moveTo>
                  <a:pt x="20191" y="6945"/>
                </a:moveTo>
                <a:cubicBezTo>
                  <a:pt x="20330" y="6968"/>
                  <a:pt x="20442" y="7060"/>
                  <a:pt x="20563" y="7144"/>
                </a:cubicBezTo>
                <a:cubicBezTo>
                  <a:pt x="20726" y="7257"/>
                  <a:pt x="20891" y="7379"/>
                  <a:pt x="21034" y="7516"/>
                </a:cubicBezTo>
                <a:cubicBezTo>
                  <a:pt x="21130" y="7609"/>
                  <a:pt x="21251" y="7681"/>
                  <a:pt x="21357" y="7764"/>
                </a:cubicBezTo>
                <a:cubicBezTo>
                  <a:pt x="21446" y="7833"/>
                  <a:pt x="21519" y="7913"/>
                  <a:pt x="21605" y="7987"/>
                </a:cubicBezTo>
                <a:cubicBezTo>
                  <a:pt x="21684" y="8055"/>
                  <a:pt x="21754" y="8136"/>
                  <a:pt x="21828" y="8210"/>
                </a:cubicBezTo>
              </a:path>
              <a:path w="5136" h="2829">
                <a:moveTo>
                  <a:pt x="21927" y="6921"/>
                </a:moveTo>
                <a:cubicBezTo>
                  <a:pt x="21791" y="6944"/>
                  <a:pt x="21748" y="7024"/>
                  <a:pt x="21630" y="7094"/>
                </a:cubicBezTo>
                <a:cubicBezTo>
                  <a:pt x="21520" y="7159"/>
                  <a:pt x="21414" y="7226"/>
                  <a:pt x="21307" y="7293"/>
                </a:cubicBezTo>
                <a:cubicBezTo>
                  <a:pt x="21195" y="7363"/>
                  <a:pt x="21167" y="7416"/>
                  <a:pt x="21084" y="7516"/>
                </a:cubicBezTo>
                <a:cubicBezTo>
                  <a:pt x="21025" y="7587"/>
                  <a:pt x="20941" y="7649"/>
                  <a:pt x="20886" y="7714"/>
                </a:cubicBezTo>
                <a:cubicBezTo>
                  <a:pt x="20828" y="7782"/>
                  <a:pt x="20777" y="7849"/>
                  <a:pt x="20712" y="7913"/>
                </a:cubicBezTo>
                <a:cubicBezTo>
                  <a:pt x="20642" y="7982"/>
                  <a:pt x="20611" y="8062"/>
                  <a:pt x="20538" y="8136"/>
                </a:cubicBezTo>
                <a:cubicBezTo>
                  <a:pt x="20469" y="8205"/>
                  <a:pt x="20412" y="8301"/>
                  <a:pt x="20340" y="8359"/>
                </a:cubicBezTo>
                <a:cubicBezTo>
                  <a:pt x="20280" y="8408"/>
                  <a:pt x="20261" y="8447"/>
                  <a:pt x="20191" y="8508"/>
                </a:cubicBezTo>
              </a:path>
              <a:path w="5136" h="2829">
                <a:moveTo>
                  <a:pt x="23068" y="8781"/>
                </a:moveTo>
                <a:cubicBezTo>
                  <a:pt x="23134" y="8781"/>
                  <a:pt x="23201" y="8781"/>
                  <a:pt x="23267" y="8781"/>
                </a:cubicBezTo>
              </a:path>
              <a:path w="5136" h="2829">
                <a:moveTo>
                  <a:pt x="23068" y="8905"/>
                </a:moveTo>
                <a:cubicBezTo>
                  <a:pt x="23157" y="8944"/>
                  <a:pt x="23220" y="8954"/>
                  <a:pt x="23316" y="8954"/>
                </a:cubicBezTo>
              </a:path>
              <a:path w="5136" h="2829">
                <a:moveTo>
                  <a:pt x="23763" y="8334"/>
                </a:moveTo>
                <a:cubicBezTo>
                  <a:pt x="23732" y="8283"/>
                  <a:pt x="23612" y="8181"/>
                  <a:pt x="23540" y="8260"/>
                </a:cubicBezTo>
                <a:cubicBezTo>
                  <a:pt x="23446" y="8364"/>
                  <a:pt x="23446" y="8576"/>
                  <a:pt x="23639" y="8508"/>
                </a:cubicBezTo>
                <a:cubicBezTo>
                  <a:pt x="23655" y="8491"/>
                  <a:pt x="23672" y="8475"/>
                  <a:pt x="23688" y="8458"/>
                </a:cubicBezTo>
              </a:path>
              <a:path w="5136" h="2829">
                <a:moveTo>
                  <a:pt x="23738" y="8285"/>
                </a:moveTo>
                <a:cubicBezTo>
                  <a:pt x="23738" y="8450"/>
                  <a:pt x="23738" y="8616"/>
                  <a:pt x="23738" y="8781"/>
                </a:cubicBezTo>
              </a:path>
              <a:path w="5136" h="2829">
                <a:moveTo>
                  <a:pt x="23540" y="8880"/>
                </a:moveTo>
                <a:cubicBezTo>
                  <a:pt x="23675" y="8880"/>
                  <a:pt x="23803" y="8860"/>
                  <a:pt x="23937" y="8855"/>
                </a:cubicBezTo>
                <a:cubicBezTo>
                  <a:pt x="23953" y="8855"/>
                  <a:pt x="23970" y="8855"/>
                  <a:pt x="23986" y="8855"/>
                </a:cubicBezTo>
              </a:path>
              <a:path w="5136" h="2829">
                <a:moveTo>
                  <a:pt x="23812" y="9153"/>
                </a:moveTo>
                <a:cubicBezTo>
                  <a:pt x="23798" y="9052"/>
                  <a:pt x="23743" y="9016"/>
                  <a:pt x="23639" y="9004"/>
                </a:cubicBezTo>
                <a:cubicBezTo>
                  <a:pt x="23509" y="8990"/>
                  <a:pt x="23486" y="9099"/>
                  <a:pt x="23465" y="9203"/>
                </a:cubicBezTo>
                <a:cubicBezTo>
                  <a:pt x="23603" y="9243"/>
                  <a:pt x="23686" y="9217"/>
                  <a:pt x="23812" y="9153"/>
                </a:cubicBezTo>
              </a:path>
              <a:path w="5136" h="2829">
                <a:moveTo>
                  <a:pt x="23812" y="9054"/>
                </a:moveTo>
                <a:cubicBezTo>
                  <a:pt x="23804" y="9046"/>
                  <a:pt x="23796" y="9037"/>
                  <a:pt x="23788" y="9029"/>
                </a:cubicBezTo>
                <a:cubicBezTo>
                  <a:pt x="23788" y="9180"/>
                  <a:pt x="23779" y="9327"/>
                  <a:pt x="23812" y="9475"/>
                </a:cubicBezTo>
                <a:cubicBezTo>
                  <a:pt x="23820" y="9500"/>
                  <a:pt x="23829" y="9525"/>
                  <a:pt x="23837" y="9550"/>
                </a:cubicBezTo>
              </a:path>
              <a:path w="5136" h="2829">
                <a:moveTo>
                  <a:pt x="24061" y="8781"/>
                </a:moveTo>
                <a:cubicBezTo>
                  <a:pt x="24152" y="8781"/>
                  <a:pt x="24242" y="8781"/>
                  <a:pt x="24333" y="8781"/>
                </a:cubicBezTo>
              </a:path>
              <a:path w="5136" h="2829">
                <a:moveTo>
                  <a:pt x="24135" y="8930"/>
                </a:moveTo>
                <a:cubicBezTo>
                  <a:pt x="24237" y="8950"/>
                  <a:pt x="24338" y="8947"/>
                  <a:pt x="24433" y="8979"/>
                </a:cubicBezTo>
              </a:path>
              <a:path w="5136" h="2829">
                <a:moveTo>
                  <a:pt x="24755" y="8582"/>
                </a:moveTo>
                <a:cubicBezTo>
                  <a:pt x="24793" y="8754"/>
                  <a:pt x="24817" y="8928"/>
                  <a:pt x="24829" y="9103"/>
                </a:cubicBezTo>
                <a:cubicBezTo>
                  <a:pt x="24829" y="9181"/>
                  <a:pt x="24813" y="9199"/>
                  <a:pt x="24854" y="9227"/>
                </a:cubicBezTo>
              </a:path>
              <a:path w="5136" h="2829">
                <a:moveTo>
                  <a:pt x="24829" y="8334"/>
                </a:moveTo>
                <a:cubicBezTo>
                  <a:pt x="24760" y="8295"/>
                  <a:pt x="24738" y="8285"/>
                  <a:pt x="24656" y="8285"/>
                </a:cubicBezTo>
                <a:cubicBezTo>
                  <a:pt x="24541" y="8285"/>
                  <a:pt x="24454" y="8304"/>
                  <a:pt x="24358" y="8359"/>
                </a:cubicBezTo>
                <a:cubicBezTo>
                  <a:pt x="24253" y="8418"/>
                  <a:pt x="24222" y="8540"/>
                  <a:pt x="24209" y="8657"/>
                </a:cubicBezTo>
                <a:cubicBezTo>
                  <a:pt x="24197" y="8761"/>
                  <a:pt x="24238" y="8910"/>
                  <a:pt x="24284" y="9004"/>
                </a:cubicBezTo>
                <a:cubicBezTo>
                  <a:pt x="24335" y="9106"/>
                  <a:pt x="24420" y="9229"/>
                  <a:pt x="24507" y="9302"/>
                </a:cubicBezTo>
                <a:cubicBezTo>
                  <a:pt x="24587" y="9370"/>
                  <a:pt x="24705" y="9390"/>
                  <a:pt x="24805" y="9401"/>
                </a:cubicBezTo>
                <a:cubicBezTo>
                  <a:pt x="24910" y="9413"/>
                  <a:pt x="25032" y="9398"/>
                  <a:pt x="25127" y="9351"/>
                </a:cubicBezTo>
                <a:cubicBezTo>
                  <a:pt x="25231" y="9300"/>
                  <a:pt x="25306" y="9166"/>
                  <a:pt x="25326" y="9054"/>
                </a:cubicBezTo>
                <a:cubicBezTo>
                  <a:pt x="25344" y="8955"/>
                  <a:pt x="25324" y="8796"/>
                  <a:pt x="25276" y="8706"/>
                </a:cubicBezTo>
                <a:cubicBezTo>
                  <a:pt x="25237" y="8634"/>
                  <a:pt x="25173" y="8584"/>
                  <a:pt x="25102" y="8533"/>
                </a:cubicBezTo>
                <a:cubicBezTo>
                  <a:pt x="25021" y="8475"/>
                  <a:pt x="24954" y="8437"/>
                  <a:pt x="24879" y="838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3911760"/>
            <a:ext cx="160200" cy="320400"/>
          </a:xfrm>
          <a:custGeom>
            <a:avLst/>
            <a:gdLst/>
            <a:ahLst/>
            <a:rect l="l" t="t" r="r" b="b"/>
            <a:pathLst>
              <a:path w="447" h="894">
                <a:moveTo>
                  <a:pt x="19893" y="10889"/>
                </a:moveTo>
                <a:cubicBezTo>
                  <a:pt x="19688" y="10877"/>
                  <a:pt x="19613" y="10940"/>
                  <a:pt x="19472" y="11088"/>
                </a:cubicBezTo>
                <a:cubicBezTo>
                  <a:pt x="19464" y="11096"/>
                  <a:pt x="19455" y="11104"/>
                  <a:pt x="19447" y="11112"/>
                </a:cubicBezTo>
                <a:cubicBezTo>
                  <a:pt x="19577" y="11235"/>
                  <a:pt x="19864" y="11305"/>
                  <a:pt x="19893" y="11509"/>
                </a:cubicBezTo>
                <a:cubicBezTo>
                  <a:pt x="19912" y="11638"/>
                  <a:pt x="19793" y="11812"/>
                  <a:pt x="19645" y="11757"/>
                </a:cubicBezTo>
                <a:cubicBezTo>
                  <a:pt x="19483" y="11697"/>
                  <a:pt x="19620" y="11505"/>
                  <a:pt x="19670" y="11435"/>
                </a:cubicBezTo>
                <a:cubicBezTo>
                  <a:pt x="19764" y="11304"/>
                  <a:pt x="19862" y="11201"/>
                  <a:pt x="19893" y="11038"/>
                </a:cubicBezTo>
                <a:cubicBezTo>
                  <a:pt x="19907" y="10964"/>
                  <a:pt x="19842" y="10952"/>
                  <a:pt x="19794" y="109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2680" y="3795840"/>
            <a:ext cx="1108080" cy="490320"/>
          </a:xfrm>
          <a:custGeom>
            <a:avLst/>
            <a:gdLst/>
            <a:ahLst/>
            <a:rect l="l" t="t" r="r" b="b"/>
            <a:pathLst>
              <a:path w="3077" h="1365">
                <a:moveTo>
                  <a:pt x="20737" y="10740"/>
                </a:moveTo>
                <a:cubicBezTo>
                  <a:pt x="20695" y="10798"/>
                  <a:pt x="20619" y="10907"/>
                  <a:pt x="20662" y="10988"/>
                </a:cubicBezTo>
                <a:cubicBezTo>
                  <a:pt x="20719" y="11096"/>
                  <a:pt x="20887" y="11003"/>
                  <a:pt x="20910" y="10914"/>
                </a:cubicBezTo>
                <a:cubicBezTo>
                  <a:pt x="20921" y="10872"/>
                  <a:pt x="20886" y="10758"/>
                  <a:pt x="20836" y="10740"/>
                </a:cubicBezTo>
                <a:cubicBezTo>
                  <a:pt x="20819" y="10740"/>
                  <a:pt x="20803" y="10740"/>
                  <a:pt x="20786" y="10740"/>
                </a:cubicBezTo>
              </a:path>
              <a:path w="3077" h="1365">
                <a:moveTo>
                  <a:pt x="20563" y="11162"/>
                </a:moveTo>
                <a:cubicBezTo>
                  <a:pt x="20737" y="11113"/>
                  <a:pt x="20904" y="11076"/>
                  <a:pt x="21084" y="11063"/>
                </a:cubicBezTo>
              </a:path>
              <a:path w="3077" h="1365">
                <a:moveTo>
                  <a:pt x="20935" y="11435"/>
                </a:moveTo>
                <a:cubicBezTo>
                  <a:pt x="20935" y="11359"/>
                  <a:pt x="20934" y="11333"/>
                  <a:pt x="20910" y="11286"/>
                </a:cubicBezTo>
                <a:cubicBezTo>
                  <a:pt x="20755" y="11286"/>
                  <a:pt x="20724" y="11353"/>
                  <a:pt x="20638" y="11485"/>
                </a:cubicBezTo>
                <a:cubicBezTo>
                  <a:pt x="20630" y="11501"/>
                  <a:pt x="20621" y="11518"/>
                  <a:pt x="20613" y="11534"/>
                </a:cubicBezTo>
                <a:cubicBezTo>
                  <a:pt x="20777" y="11554"/>
                  <a:pt x="20844" y="11565"/>
                  <a:pt x="20910" y="11410"/>
                </a:cubicBezTo>
                <a:cubicBezTo>
                  <a:pt x="20918" y="11394"/>
                  <a:pt x="20927" y="11377"/>
                  <a:pt x="20935" y="11361"/>
                </a:cubicBezTo>
                <a:cubicBezTo>
                  <a:pt x="20912" y="11493"/>
                  <a:pt x="20904" y="11668"/>
                  <a:pt x="20861" y="11782"/>
                </a:cubicBezTo>
              </a:path>
              <a:path w="3077" h="1365">
                <a:moveTo>
                  <a:pt x="21307" y="11137"/>
                </a:moveTo>
                <a:cubicBezTo>
                  <a:pt x="21437" y="11085"/>
                  <a:pt x="21565" y="11048"/>
                  <a:pt x="21704" y="11038"/>
                </a:cubicBezTo>
                <a:cubicBezTo>
                  <a:pt x="21721" y="11038"/>
                  <a:pt x="21737" y="11038"/>
                  <a:pt x="21754" y="11038"/>
                </a:cubicBezTo>
              </a:path>
              <a:path w="3077" h="1365">
                <a:moveTo>
                  <a:pt x="21431" y="11237"/>
                </a:moveTo>
                <a:cubicBezTo>
                  <a:pt x="21555" y="11212"/>
                  <a:pt x="21596" y="11204"/>
                  <a:pt x="21679" y="11187"/>
                </a:cubicBezTo>
              </a:path>
              <a:path w="3077" h="1365">
                <a:moveTo>
                  <a:pt x="22721" y="10964"/>
                </a:moveTo>
                <a:cubicBezTo>
                  <a:pt x="22519" y="10925"/>
                  <a:pt x="22405" y="10945"/>
                  <a:pt x="22250" y="11088"/>
                </a:cubicBezTo>
                <a:cubicBezTo>
                  <a:pt x="22423" y="11206"/>
                  <a:pt x="22727" y="11307"/>
                  <a:pt x="22771" y="11534"/>
                </a:cubicBezTo>
                <a:cubicBezTo>
                  <a:pt x="22804" y="11705"/>
                  <a:pt x="22674" y="11676"/>
                  <a:pt x="22572" y="11683"/>
                </a:cubicBezTo>
                <a:cubicBezTo>
                  <a:pt x="22516" y="11426"/>
                  <a:pt x="22699" y="11340"/>
                  <a:pt x="22746" y="11088"/>
                </a:cubicBezTo>
                <a:cubicBezTo>
                  <a:pt x="22727" y="11030"/>
                  <a:pt x="22736" y="11005"/>
                  <a:pt x="22696" y="11013"/>
                </a:cubicBezTo>
              </a:path>
              <a:path w="3077" h="1365">
                <a:moveTo>
                  <a:pt x="22027" y="11733"/>
                </a:moveTo>
                <a:cubicBezTo>
                  <a:pt x="22189" y="11926"/>
                  <a:pt x="22435" y="11900"/>
                  <a:pt x="22696" y="11906"/>
                </a:cubicBezTo>
                <a:cubicBezTo>
                  <a:pt x="23015" y="11913"/>
                  <a:pt x="23345" y="11850"/>
                  <a:pt x="23540" y="11559"/>
                </a:cubicBezTo>
                <a:cubicBezTo>
                  <a:pt x="23762" y="11228"/>
                  <a:pt x="23615" y="10920"/>
                  <a:pt x="23316" y="10716"/>
                </a:cubicBezTo>
                <a:cubicBezTo>
                  <a:pt x="23062" y="10543"/>
                  <a:pt x="22767" y="10508"/>
                  <a:pt x="22473" y="10567"/>
                </a:cubicBezTo>
                <a:cubicBezTo>
                  <a:pt x="22212" y="10619"/>
                  <a:pt x="21995" y="10702"/>
                  <a:pt x="21853" y="10939"/>
                </a:cubicBezTo>
                <a:cubicBezTo>
                  <a:pt x="21728" y="11148"/>
                  <a:pt x="21775" y="11427"/>
                  <a:pt x="21927" y="11609"/>
                </a:cubicBezTo>
                <a:cubicBezTo>
                  <a:pt x="22094" y="11751"/>
                  <a:pt x="22144" y="11796"/>
                  <a:pt x="22275" y="1185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45160" y="955800"/>
            <a:ext cx="1839960" cy="2840040"/>
          </a:xfrm>
          <a:custGeom>
            <a:avLst/>
            <a:gdLst/>
            <a:ahLst/>
            <a:rect l="l" t="t" r="r" b="b"/>
            <a:pathLst>
              <a:path w="5111" h="7889">
                <a:moveTo>
                  <a:pt x="19621" y="2753"/>
                </a:moveTo>
                <a:cubicBezTo>
                  <a:pt x="19597" y="2705"/>
                  <a:pt x="19588" y="2691"/>
                  <a:pt x="19596" y="2654"/>
                </a:cubicBezTo>
                <a:cubicBezTo>
                  <a:pt x="19584" y="2859"/>
                  <a:pt x="19580" y="3071"/>
                  <a:pt x="19546" y="3274"/>
                </a:cubicBezTo>
                <a:cubicBezTo>
                  <a:pt x="19538" y="3307"/>
                  <a:pt x="19529" y="3340"/>
                  <a:pt x="19521" y="3373"/>
                </a:cubicBezTo>
              </a:path>
              <a:path w="5111" h="7889">
                <a:moveTo>
                  <a:pt x="20265" y="2729"/>
                </a:moveTo>
                <a:cubicBezTo>
                  <a:pt x="20025" y="2716"/>
                  <a:pt x="20006" y="2768"/>
                  <a:pt x="19893" y="3001"/>
                </a:cubicBezTo>
                <a:cubicBezTo>
                  <a:pt x="19885" y="3026"/>
                  <a:pt x="19877" y="3051"/>
                  <a:pt x="19869" y="3076"/>
                </a:cubicBezTo>
                <a:cubicBezTo>
                  <a:pt x="20072" y="3040"/>
                  <a:pt x="20143" y="3038"/>
                  <a:pt x="20290" y="3175"/>
                </a:cubicBezTo>
                <a:cubicBezTo>
                  <a:pt x="20133" y="3390"/>
                  <a:pt x="20022" y="3363"/>
                  <a:pt x="19769" y="3299"/>
                </a:cubicBezTo>
              </a:path>
              <a:path w="5111" h="7889">
                <a:moveTo>
                  <a:pt x="20513" y="2853"/>
                </a:moveTo>
                <a:cubicBezTo>
                  <a:pt x="20639" y="2811"/>
                  <a:pt x="20749" y="2817"/>
                  <a:pt x="20861" y="2877"/>
                </a:cubicBezTo>
                <a:cubicBezTo>
                  <a:pt x="20811" y="3049"/>
                  <a:pt x="20699" y="3140"/>
                  <a:pt x="20563" y="3274"/>
                </a:cubicBezTo>
                <a:cubicBezTo>
                  <a:pt x="20677" y="3343"/>
                  <a:pt x="20793" y="3324"/>
                  <a:pt x="20935" y="3324"/>
                </a:cubicBezTo>
              </a:path>
              <a:path w="5111" h="7889">
                <a:moveTo>
                  <a:pt x="21357" y="2828"/>
                </a:moveTo>
                <a:cubicBezTo>
                  <a:pt x="21357" y="2954"/>
                  <a:pt x="21383" y="3121"/>
                  <a:pt x="21357" y="3225"/>
                </a:cubicBezTo>
              </a:path>
              <a:path w="5111" h="7889">
                <a:moveTo>
                  <a:pt x="21208" y="3051"/>
                </a:moveTo>
                <a:cubicBezTo>
                  <a:pt x="21364" y="3007"/>
                  <a:pt x="21492" y="2984"/>
                  <a:pt x="21654" y="2977"/>
                </a:cubicBezTo>
              </a:path>
              <a:path w="5111" h="7889">
                <a:moveTo>
                  <a:pt x="22027" y="2753"/>
                </a:moveTo>
                <a:cubicBezTo>
                  <a:pt x="22131" y="2768"/>
                  <a:pt x="22336" y="2803"/>
                  <a:pt x="22374" y="2927"/>
                </a:cubicBezTo>
                <a:cubicBezTo>
                  <a:pt x="22434" y="3122"/>
                  <a:pt x="22106" y="3226"/>
                  <a:pt x="22002" y="3299"/>
                </a:cubicBezTo>
                <a:cubicBezTo>
                  <a:pt x="22142" y="3299"/>
                  <a:pt x="22283" y="3299"/>
                  <a:pt x="22423" y="3299"/>
                </a:cubicBezTo>
              </a:path>
              <a:path w="5111" h="7889">
                <a:moveTo>
                  <a:pt x="21605" y="4142"/>
                </a:moveTo>
                <a:cubicBezTo>
                  <a:pt x="21576" y="4348"/>
                  <a:pt x="21580" y="4553"/>
                  <a:pt x="21580" y="4762"/>
                </a:cubicBezTo>
              </a:path>
              <a:path w="5111" h="7889">
                <a:moveTo>
                  <a:pt x="22175" y="4093"/>
                </a:moveTo>
                <a:cubicBezTo>
                  <a:pt x="22092" y="4114"/>
                  <a:pt x="21965" y="4123"/>
                  <a:pt x="21903" y="4192"/>
                </a:cubicBezTo>
                <a:cubicBezTo>
                  <a:pt x="21855" y="4263"/>
                  <a:pt x="21839" y="4285"/>
                  <a:pt x="21828" y="4341"/>
                </a:cubicBezTo>
                <a:cubicBezTo>
                  <a:pt x="21968" y="4318"/>
                  <a:pt x="22265" y="4237"/>
                  <a:pt x="22275" y="4465"/>
                </a:cubicBezTo>
                <a:cubicBezTo>
                  <a:pt x="22283" y="4657"/>
                  <a:pt x="22132" y="4682"/>
                  <a:pt x="22002" y="4713"/>
                </a:cubicBezTo>
              </a:path>
              <a:path w="5111" h="7889">
                <a:moveTo>
                  <a:pt x="22572" y="4167"/>
                </a:moveTo>
                <a:cubicBezTo>
                  <a:pt x="22679" y="4152"/>
                  <a:pt x="22906" y="4139"/>
                  <a:pt x="22820" y="4341"/>
                </a:cubicBezTo>
                <a:cubicBezTo>
                  <a:pt x="22772" y="4454"/>
                  <a:pt x="22641" y="4561"/>
                  <a:pt x="22572" y="4663"/>
                </a:cubicBezTo>
                <a:cubicBezTo>
                  <a:pt x="22686" y="4689"/>
                  <a:pt x="22799" y="4688"/>
                  <a:pt x="22920" y="4688"/>
                </a:cubicBezTo>
              </a:path>
              <a:path w="5111" h="7889">
                <a:moveTo>
                  <a:pt x="21010" y="5060"/>
                </a:moveTo>
                <a:cubicBezTo>
                  <a:pt x="21044" y="5198"/>
                  <a:pt x="21047" y="5294"/>
                  <a:pt x="21034" y="5432"/>
                </a:cubicBezTo>
              </a:path>
              <a:path w="5111" h="7889">
                <a:moveTo>
                  <a:pt x="21084" y="5234"/>
                </a:moveTo>
                <a:cubicBezTo>
                  <a:pt x="21150" y="5209"/>
                  <a:pt x="21216" y="5184"/>
                  <a:pt x="21282" y="5159"/>
                </a:cubicBezTo>
              </a:path>
              <a:path w="5111" h="7889">
                <a:moveTo>
                  <a:pt x="21630" y="5060"/>
                </a:moveTo>
                <a:cubicBezTo>
                  <a:pt x="21761" y="5039"/>
                  <a:pt x="21791" y="5010"/>
                  <a:pt x="21878" y="5085"/>
                </a:cubicBezTo>
                <a:cubicBezTo>
                  <a:pt x="21864" y="5266"/>
                  <a:pt x="21727" y="5321"/>
                  <a:pt x="21555" y="5407"/>
                </a:cubicBezTo>
                <a:cubicBezTo>
                  <a:pt x="21707" y="5400"/>
                  <a:pt x="21851" y="5382"/>
                  <a:pt x="22002" y="5358"/>
                </a:cubicBezTo>
              </a:path>
              <a:path w="5111" h="7889">
                <a:moveTo>
                  <a:pt x="21010" y="5779"/>
                </a:moveTo>
                <a:cubicBezTo>
                  <a:pt x="21759" y="5630"/>
                  <a:pt x="22477" y="5518"/>
                  <a:pt x="23242" y="5507"/>
                </a:cubicBezTo>
                <a:cubicBezTo>
                  <a:pt x="23259" y="5507"/>
                  <a:pt x="23275" y="5507"/>
                  <a:pt x="23292" y="5507"/>
                </a:cubicBezTo>
              </a:path>
              <a:path w="5111" h="7889">
                <a:moveTo>
                  <a:pt x="19298" y="7119"/>
                </a:moveTo>
                <a:cubicBezTo>
                  <a:pt x="19324" y="7097"/>
                  <a:pt x="19460" y="6962"/>
                  <a:pt x="19521" y="7020"/>
                </a:cubicBezTo>
                <a:cubicBezTo>
                  <a:pt x="19633" y="7126"/>
                  <a:pt x="19549" y="7243"/>
                  <a:pt x="19496" y="7342"/>
                </a:cubicBezTo>
                <a:cubicBezTo>
                  <a:pt x="19426" y="7474"/>
                  <a:pt x="19357" y="7602"/>
                  <a:pt x="19298" y="7739"/>
                </a:cubicBezTo>
                <a:cubicBezTo>
                  <a:pt x="19259" y="7829"/>
                  <a:pt x="19221" y="7903"/>
                  <a:pt x="19174" y="7987"/>
                </a:cubicBezTo>
                <a:cubicBezTo>
                  <a:pt x="19203" y="7933"/>
                  <a:pt x="19290" y="7706"/>
                  <a:pt x="19397" y="7764"/>
                </a:cubicBezTo>
                <a:cubicBezTo>
                  <a:pt x="19516" y="7828"/>
                  <a:pt x="19520" y="7984"/>
                  <a:pt x="19670" y="8012"/>
                </a:cubicBezTo>
                <a:cubicBezTo>
                  <a:pt x="19791" y="8035"/>
                  <a:pt x="19830" y="7970"/>
                  <a:pt x="19893" y="7888"/>
                </a:cubicBezTo>
              </a:path>
              <a:path w="5111" h="7889">
                <a:moveTo>
                  <a:pt x="20365" y="7045"/>
                </a:moveTo>
                <a:cubicBezTo>
                  <a:pt x="20346" y="6979"/>
                  <a:pt x="20374" y="6917"/>
                  <a:pt x="20464" y="6896"/>
                </a:cubicBezTo>
                <a:cubicBezTo>
                  <a:pt x="20489" y="6896"/>
                  <a:pt x="20513" y="6896"/>
                  <a:pt x="20538" y="6896"/>
                </a:cubicBezTo>
                <a:cubicBezTo>
                  <a:pt x="20574" y="7074"/>
                  <a:pt x="20542" y="7110"/>
                  <a:pt x="20414" y="7243"/>
                </a:cubicBezTo>
                <a:cubicBezTo>
                  <a:pt x="20350" y="7309"/>
                  <a:pt x="20291" y="7367"/>
                  <a:pt x="20216" y="7417"/>
                </a:cubicBezTo>
                <a:cubicBezTo>
                  <a:pt x="20298" y="7355"/>
                  <a:pt x="20311" y="7344"/>
                  <a:pt x="20389" y="7417"/>
                </a:cubicBezTo>
                <a:cubicBezTo>
                  <a:pt x="20503" y="7524"/>
                  <a:pt x="20578" y="7492"/>
                  <a:pt x="20712" y="7441"/>
                </a:cubicBezTo>
              </a:path>
              <a:path w="5111" h="7889">
                <a:moveTo>
                  <a:pt x="20166" y="7764"/>
                </a:moveTo>
                <a:cubicBezTo>
                  <a:pt x="20338" y="7687"/>
                  <a:pt x="20494" y="7635"/>
                  <a:pt x="20687" y="7665"/>
                </a:cubicBezTo>
                <a:cubicBezTo>
                  <a:pt x="20737" y="7689"/>
                  <a:pt x="20753" y="7697"/>
                  <a:pt x="20786" y="7714"/>
                </a:cubicBezTo>
              </a:path>
              <a:path w="5111" h="7889">
                <a:moveTo>
                  <a:pt x="20365" y="8012"/>
                </a:moveTo>
                <a:cubicBezTo>
                  <a:pt x="20412" y="7989"/>
                  <a:pt x="20607" y="7857"/>
                  <a:pt x="20613" y="7987"/>
                </a:cubicBezTo>
                <a:cubicBezTo>
                  <a:pt x="20616" y="8053"/>
                  <a:pt x="20553" y="8096"/>
                  <a:pt x="20513" y="8136"/>
                </a:cubicBezTo>
                <a:cubicBezTo>
                  <a:pt x="20571" y="8136"/>
                  <a:pt x="20580" y="8136"/>
                  <a:pt x="20613" y="8136"/>
                </a:cubicBezTo>
                <a:cubicBezTo>
                  <a:pt x="20635" y="8202"/>
                  <a:pt x="20651" y="8324"/>
                  <a:pt x="20563" y="8359"/>
                </a:cubicBezTo>
                <a:cubicBezTo>
                  <a:pt x="20531" y="8372"/>
                  <a:pt x="20453" y="8359"/>
                  <a:pt x="20414" y="8359"/>
                </a:cubicBezTo>
              </a:path>
              <a:path w="5111" h="7889">
                <a:moveTo>
                  <a:pt x="18231" y="9054"/>
                </a:moveTo>
                <a:cubicBezTo>
                  <a:pt x="18251" y="9176"/>
                  <a:pt x="18301" y="9298"/>
                  <a:pt x="18281" y="9426"/>
                </a:cubicBezTo>
                <a:cubicBezTo>
                  <a:pt x="18273" y="9434"/>
                  <a:pt x="18264" y="9443"/>
                  <a:pt x="18256" y="9451"/>
                </a:cubicBezTo>
              </a:path>
              <a:path w="5111" h="7889">
                <a:moveTo>
                  <a:pt x="18182" y="9277"/>
                </a:moveTo>
                <a:cubicBezTo>
                  <a:pt x="18284" y="9277"/>
                  <a:pt x="18378" y="9261"/>
                  <a:pt x="18479" y="9252"/>
                </a:cubicBezTo>
              </a:path>
              <a:path w="5111" h="7889">
                <a:moveTo>
                  <a:pt x="19745" y="9004"/>
                </a:moveTo>
                <a:cubicBezTo>
                  <a:pt x="19629" y="9004"/>
                  <a:pt x="19513" y="9004"/>
                  <a:pt x="19397" y="9004"/>
                </a:cubicBezTo>
                <a:cubicBezTo>
                  <a:pt x="19397" y="9093"/>
                  <a:pt x="19376" y="9197"/>
                  <a:pt x="19422" y="9277"/>
                </a:cubicBezTo>
                <a:cubicBezTo>
                  <a:pt x="19430" y="9285"/>
                  <a:pt x="19439" y="9294"/>
                  <a:pt x="19447" y="9302"/>
                </a:cubicBezTo>
                <a:cubicBezTo>
                  <a:pt x="19620" y="9256"/>
                  <a:pt x="19720" y="9165"/>
                  <a:pt x="19819" y="9351"/>
                </a:cubicBezTo>
                <a:cubicBezTo>
                  <a:pt x="19885" y="9476"/>
                  <a:pt x="19882" y="9689"/>
                  <a:pt x="19720" y="9748"/>
                </a:cubicBezTo>
                <a:cubicBezTo>
                  <a:pt x="19586" y="9797"/>
                  <a:pt x="19455" y="9770"/>
                  <a:pt x="19323" y="9748"/>
                </a:cubicBezTo>
              </a:path>
              <a:path w="5111" h="7889">
                <a:moveTo>
                  <a:pt x="20563" y="8880"/>
                </a:moveTo>
                <a:cubicBezTo>
                  <a:pt x="20489" y="8758"/>
                  <a:pt x="20682" y="8812"/>
                  <a:pt x="20687" y="8930"/>
                </a:cubicBezTo>
                <a:cubicBezTo>
                  <a:pt x="20660" y="8983"/>
                  <a:pt x="20648" y="9003"/>
                  <a:pt x="20613" y="9029"/>
                </a:cubicBezTo>
                <a:cubicBezTo>
                  <a:pt x="20600" y="9042"/>
                  <a:pt x="20660" y="8989"/>
                  <a:pt x="20737" y="9079"/>
                </a:cubicBezTo>
                <a:cubicBezTo>
                  <a:pt x="20672" y="9165"/>
                  <a:pt x="20644" y="9168"/>
                  <a:pt x="20538" y="9203"/>
                </a:cubicBezTo>
              </a:path>
              <a:path w="5111" h="7889">
                <a:moveTo>
                  <a:pt x="20389" y="9451"/>
                </a:moveTo>
                <a:cubicBezTo>
                  <a:pt x="20531" y="9404"/>
                  <a:pt x="20709" y="9372"/>
                  <a:pt x="20861" y="9401"/>
                </a:cubicBezTo>
                <a:cubicBezTo>
                  <a:pt x="20869" y="9409"/>
                  <a:pt x="20878" y="9418"/>
                  <a:pt x="20886" y="9426"/>
                </a:cubicBezTo>
              </a:path>
              <a:path w="5111" h="7889">
                <a:moveTo>
                  <a:pt x="20811" y="9847"/>
                </a:moveTo>
                <a:cubicBezTo>
                  <a:pt x="20782" y="9745"/>
                  <a:pt x="20771" y="9634"/>
                  <a:pt x="20638" y="9649"/>
                </a:cubicBezTo>
                <a:cubicBezTo>
                  <a:pt x="20543" y="9660"/>
                  <a:pt x="20365" y="9788"/>
                  <a:pt x="20464" y="9897"/>
                </a:cubicBezTo>
                <a:cubicBezTo>
                  <a:pt x="20551" y="9993"/>
                  <a:pt x="20695" y="9892"/>
                  <a:pt x="20737" y="9798"/>
                </a:cubicBezTo>
                <a:cubicBezTo>
                  <a:pt x="20741" y="9788"/>
                  <a:pt x="20737" y="9612"/>
                  <a:pt x="20737" y="9748"/>
                </a:cubicBezTo>
                <a:cubicBezTo>
                  <a:pt x="20744" y="9900"/>
                  <a:pt x="20767" y="10047"/>
                  <a:pt x="20786" y="10195"/>
                </a:cubicBezTo>
                <a:cubicBezTo>
                  <a:pt x="20786" y="10211"/>
                  <a:pt x="20786" y="10228"/>
                  <a:pt x="20786" y="10244"/>
                </a:cubicBezTo>
              </a:path>
              <a:path w="5111" h="7889">
                <a:moveTo>
                  <a:pt x="18777" y="10418"/>
                </a:moveTo>
                <a:cubicBezTo>
                  <a:pt x="18882" y="10453"/>
                  <a:pt x="18987" y="10443"/>
                  <a:pt x="19100" y="10443"/>
                </a:cubicBezTo>
                <a:cubicBezTo>
                  <a:pt x="19322" y="10443"/>
                  <a:pt x="19549" y="10488"/>
                  <a:pt x="19769" y="10517"/>
                </a:cubicBezTo>
                <a:cubicBezTo>
                  <a:pt x="19977" y="10544"/>
                  <a:pt x="20179" y="10542"/>
                  <a:pt x="20389" y="10542"/>
                </a:cubicBezTo>
                <a:cubicBezTo>
                  <a:pt x="20554" y="10542"/>
                  <a:pt x="20723" y="10512"/>
                  <a:pt x="20886" y="10492"/>
                </a:cubicBezTo>
                <a:cubicBezTo>
                  <a:pt x="21038" y="10473"/>
                  <a:pt x="21179" y="10468"/>
                  <a:pt x="21332" y="10468"/>
                </a:cubicBezTo>
                <a:cubicBezTo>
                  <a:pt x="21415" y="10468"/>
                  <a:pt x="21497" y="10468"/>
                  <a:pt x="21580" y="10468"/>
                </a:cubicBezTo>
              </a:path>
              <a:path w="5111" h="7889">
                <a:moveTo>
                  <a:pt x="19397" y="5755"/>
                </a:moveTo>
                <a:cubicBezTo>
                  <a:pt x="19397" y="5915"/>
                  <a:pt x="19412" y="6068"/>
                  <a:pt x="19422" y="6226"/>
                </a:cubicBezTo>
                <a:cubicBezTo>
                  <a:pt x="19429" y="6332"/>
                  <a:pt x="19422" y="6442"/>
                  <a:pt x="19422" y="654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5120" y="3036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543" y="8434"/>
                </a:moveTo>
                <a:lnTo>
                  <a:pt x="13543" y="8434"/>
                </a:ln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55840" y="2209680"/>
                <a:ext cx="89676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29920" y="3772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15880" y="3809880"/>
                <a:ext cx="978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97600" y="563400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 Practice Time…..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48040" y="2044800"/>
            <a:ext cx="573120" cy="473040"/>
          </a:xfrm>
          <a:custGeom>
            <a:avLst/>
            <a:gdLst/>
            <a:ahLst/>
            <a:rect l="l" t="t" r="r" b="b"/>
            <a:pathLst>
              <a:path w="1588" h="1316">
                <a:moveTo>
                  <a:pt x="10840" y="6127"/>
                </a:moveTo>
                <a:cubicBezTo>
                  <a:pt x="10841" y="6128"/>
                  <a:pt x="10708" y="6437"/>
                  <a:pt x="10691" y="6548"/>
                </a:cubicBezTo>
                <a:cubicBezTo>
                  <a:pt x="10665" y="6723"/>
                  <a:pt x="10667" y="6811"/>
                  <a:pt x="10840" y="6821"/>
                </a:cubicBezTo>
                <a:cubicBezTo>
                  <a:pt x="11025" y="6832"/>
                  <a:pt x="11156" y="6760"/>
                  <a:pt x="11237" y="6598"/>
                </a:cubicBezTo>
                <a:cubicBezTo>
                  <a:pt x="11237" y="6563"/>
                  <a:pt x="11228" y="6550"/>
                  <a:pt x="11187" y="6548"/>
                </a:cubicBezTo>
                <a:cubicBezTo>
                  <a:pt x="11027" y="6591"/>
                  <a:pt x="10991" y="6647"/>
                  <a:pt x="10964" y="6821"/>
                </a:cubicBezTo>
              </a:path>
              <a:path w="1588" h="1316">
                <a:moveTo>
                  <a:pt x="11981" y="5680"/>
                </a:moveTo>
                <a:cubicBezTo>
                  <a:pt x="12021" y="5833"/>
                  <a:pt x="12030" y="5969"/>
                  <a:pt x="12030" y="6127"/>
                </a:cubicBezTo>
                <a:cubicBezTo>
                  <a:pt x="12030" y="6143"/>
                  <a:pt x="12030" y="6160"/>
                  <a:pt x="12030" y="6176"/>
                </a:cubicBezTo>
              </a:path>
              <a:path w="1588" h="1316">
                <a:moveTo>
                  <a:pt x="11733" y="6300"/>
                </a:moveTo>
                <a:cubicBezTo>
                  <a:pt x="11924" y="6270"/>
                  <a:pt x="12089" y="6238"/>
                  <a:pt x="12278" y="6276"/>
                </a:cubicBezTo>
              </a:path>
              <a:path w="1588" h="1316">
                <a:moveTo>
                  <a:pt x="11931" y="6548"/>
                </a:moveTo>
                <a:cubicBezTo>
                  <a:pt x="11877" y="6774"/>
                  <a:pt x="11904" y="6745"/>
                  <a:pt x="12129" y="6722"/>
                </a:cubicBezTo>
              </a:path>
              <a:path w="1588" h="1316">
                <a:moveTo>
                  <a:pt x="12229" y="6474"/>
                </a:moveTo>
                <a:cubicBezTo>
                  <a:pt x="12139" y="6601"/>
                  <a:pt x="12115" y="6821"/>
                  <a:pt x="12080" y="699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54280" y="3133800"/>
            <a:ext cx="1197000" cy="1492200"/>
          </a:xfrm>
          <a:custGeom>
            <a:avLst/>
            <a:gdLst/>
            <a:ahLst/>
            <a:rect l="l" t="t" r="r" b="b"/>
            <a:pathLst>
              <a:path w="3325" h="4144">
                <a:moveTo>
                  <a:pt x="12080" y="9128"/>
                </a:moveTo>
                <a:cubicBezTo>
                  <a:pt x="12166" y="9094"/>
                  <a:pt x="12334" y="9035"/>
                  <a:pt x="12427" y="9079"/>
                </a:cubicBezTo>
                <a:cubicBezTo>
                  <a:pt x="12435" y="9095"/>
                  <a:pt x="12444" y="9112"/>
                  <a:pt x="12452" y="9128"/>
                </a:cubicBezTo>
                <a:cubicBezTo>
                  <a:pt x="12384" y="9224"/>
                  <a:pt x="12326" y="9333"/>
                  <a:pt x="12303" y="9451"/>
                </a:cubicBezTo>
                <a:cubicBezTo>
                  <a:pt x="12303" y="9467"/>
                  <a:pt x="12303" y="9484"/>
                  <a:pt x="12303" y="9500"/>
                </a:cubicBezTo>
              </a:path>
              <a:path w="3325" h="4144">
                <a:moveTo>
                  <a:pt x="11906" y="9723"/>
                </a:moveTo>
                <a:cubicBezTo>
                  <a:pt x="12141" y="9629"/>
                  <a:pt x="12377" y="9607"/>
                  <a:pt x="12626" y="9550"/>
                </a:cubicBezTo>
                <a:cubicBezTo>
                  <a:pt x="12708" y="9529"/>
                  <a:pt x="12723" y="9521"/>
                  <a:pt x="12774" y="9525"/>
                </a:cubicBezTo>
              </a:path>
              <a:path w="3325" h="4144">
                <a:moveTo>
                  <a:pt x="11981" y="9847"/>
                </a:moveTo>
                <a:cubicBezTo>
                  <a:pt x="11975" y="9946"/>
                  <a:pt x="11869" y="10475"/>
                  <a:pt x="11956" y="10244"/>
                </a:cubicBezTo>
              </a:path>
              <a:path w="3325" h="4144">
                <a:moveTo>
                  <a:pt x="12229" y="9947"/>
                </a:moveTo>
                <a:cubicBezTo>
                  <a:pt x="12329" y="9869"/>
                  <a:pt x="12349" y="9857"/>
                  <a:pt x="12477" y="9847"/>
                </a:cubicBezTo>
                <a:cubicBezTo>
                  <a:pt x="12518" y="10024"/>
                  <a:pt x="12469" y="10086"/>
                  <a:pt x="12378" y="10244"/>
                </a:cubicBezTo>
                <a:cubicBezTo>
                  <a:pt x="12268" y="10282"/>
                  <a:pt x="12483" y="10214"/>
                  <a:pt x="12551" y="10220"/>
                </a:cubicBezTo>
                <a:cubicBezTo>
                  <a:pt x="12622" y="10227"/>
                  <a:pt x="12659" y="10234"/>
                  <a:pt x="12725" y="10220"/>
                </a:cubicBezTo>
              </a:path>
              <a:path w="3325" h="4144">
                <a:moveTo>
                  <a:pt x="10840" y="9227"/>
                </a:moveTo>
                <a:cubicBezTo>
                  <a:pt x="10782" y="9359"/>
                  <a:pt x="10708" y="9504"/>
                  <a:pt x="10691" y="9649"/>
                </a:cubicBezTo>
                <a:cubicBezTo>
                  <a:pt x="10672" y="9812"/>
                  <a:pt x="10695" y="9960"/>
                  <a:pt x="10790" y="10096"/>
                </a:cubicBezTo>
                <a:cubicBezTo>
                  <a:pt x="10856" y="10191"/>
                  <a:pt x="10992" y="10186"/>
                  <a:pt x="11088" y="10145"/>
                </a:cubicBezTo>
                <a:cubicBezTo>
                  <a:pt x="11169" y="10110"/>
                  <a:pt x="11233" y="10032"/>
                  <a:pt x="11286" y="9971"/>
                </a:cubicBezTo>
                <a:cubicBezTo>
                  <a:pt x="11321" y="9938"/>
                  <a:pt x="11329" y="9916"/>
                  <a:pt x="11311" y="9872"/>
                </a:cubicBezTo>
                <a:cubicBezTo>
                  <a:pt x="11207" y="9827"/>
                  <a:pt x="11105" y="9864"/>
                  <a:pt x="11063" y="9996"/>
                </a:cubicBezTo>
                <a:cubicBezTo>
                  <a:pt x="11063" y="10079"/>
                  <a:pt x="11063" y="10095"/>
                  <a:pt x="11063" y="10145"/>
                </a:cubicBezTo>
              </a:path>
              <a:path w="3325" h="4144">
                <a:moveTo>
                  <a:pt x="10641" y="10641"/>
                </a:moveTo>
                <a:cubicBezTo>
                  <a:pt x="10834" y="10612"/>
                  <a:pt x="10995" y="10632"/>
                  <a:pt x="11187" y="10641"/>
                </a:cubicBezTo>
                <a:cubicBezTo>
                  <a:pt x="11510" y="10656"/>
                  <a:pt x="11808" y="10683"/>
                  <a:pt x="12129" y="10616"/>
                </a:cubicBezTo>
                <a:cubicBezTo>
                  <a:pt x="12405" y="10558"/>
                  <a:pt x="12716" y="10447"/>
                  <a:pt x="12923" y="10244"/>
                </a:cubicBezTo>
                <a:cubicBezTo>
                  <a:pt x="13075" y="10095"/>
                  <a:pt x="13177" y="9883"/>
                  <a:pt x="13196" y="9674"/>
                </a:cubicBezTo>
                <a:cubicBezTo>
                  <a:pt x="13216" y="9447"/>
                  <a:pt x="13171" y="9254"/>
                  <a:pt x="12998" y="9103"/>
                </a:cubicBezTo>
                <a:cubicBezTo>
                  <a:pt x="12841" y="8967"/>
                  <a:pt x="12619" y="8900"/>
                  <a:pt x="12427" y="8830"/>
                </a:cubicBezTo>
                <a:cubicBezTo>
                  <a:pt x="12220" y="8754"/>
                  <a:pt x="12000" y="8714"/>
                  <a:pt x="11782" y="8706"/>
                </a:cubicBezTo>
                <a:cubicBezTo>
                  <a:pt x="11603" y="8700"/>
                  <a:pt x="11414" y="8735"/>
                  <a:pt x="11237" y="8756"/>
                </a:cubicBezTo>
                <a:cubicBezTo>
                  <a:pt x="10985" y="8787"/>
                  <a:pt x="10699" y="8848"/>
                  <a:pt x="10468" y="8954"/>
                </a:cubicBezTo>
                <a:cubicBezTo>
                  <a:pt x="10215" y="9070"/>
                  <a:pt x="10111" y="9211"/>
                  <a:pt x="9996" y="9451"/>
                </a:cubicBezTo>
                <a:cubicBezTo>
                  <a:pt x="9924" y="9601"/>
                  <a:pt x="9829" y="9772"/>
                  <a:pt x="9872" y="9947"/>
                </a:cubicBezTo>
                <a:cubicBezTo>
                  <a:pt x="9922" y="10150"/>
                  <a:pt x="10044" y="10304"/>
                  <a:pt x="10195" y="10443"/>
                </a:cubicBezTo>
                <a:cubicBezTo>
                  <a:pt x="10374" y="10607"/>
                  <a:pt x="10588" y="10670"/>
                  <a:pt x="10815" y="10740"/>
                </a:cubicBezTo>
                <a:cubicBezTo>
                  <a:pt x="10848" y="10748"/>
                  <a:pt x="10881" y="10757"/>
                  <a:pt x="10914" y="10765"/>
                </a:cubicBezTo>
              </a:path>
              <a:path w="3325" h="4144">
                <a:moveTo>
                  <a:pt x="10964" y="11956"/>
                </a:moveTo>
                <a:cubicBezTo>
                  <a:pt x="11071" y="11913"/>
                  <a:pt x="11095" y="11890"/>
                  <a:pt x="11162" y="11931"/>
                </a:cubicBezTo>
                <a:cubicBezTo>
                  <a:pt x="11234" y="12250"/>
                  <a:pt x="11031" y="12456"/>
                  <a:pt x="10815" y="12700"/>
                </a:cubicBezTo>
                <a:cubicBezTo>
                  <a:pt x="10774" y="12741"/>
                  <a:pt x="10732" y="12783"/>
                  <a:pt x="10691" y="12824"/>
                </a:cubicBezTo>
                <a:cubicBezTo>
                  <a:pt x="10919" y="12728"/>
                  <a:pt x="11042" y="12688"/>
                  <a:pt x="11286" y="12750"/>
                </a:cubicBezTo>
              </a:path>
              <a:path w="3325" h="4144">
                <a:moveTo>
                  <a:pt x="12129" y="11212"/>
                </a:moveTo>
                <a:cubicBezTo>
                  <a:pt x="12360" y="11151"/>
                  <a:pt x="12534" y="11126"/>
                  <a:pt x="12353" y="11410"/>
                </a:cubicBezTo>
                <a:cubicBezTo>
                  <a:pt x="12320" y="11451"/>
                  <a:pt x="12287" y="11493"/>
                  <a:pt x="12254" y="11534"/>
                </a:cubicBezTo>
                <a:cubicBezTo>
                  <a:pt x="12411" y="11511"/>
                  <a:pt x="12458" y="11490"/>
                  <a:pt x="12502" y="11609"/>
                </a:cubicBezTo>
                <a:cubicBezTo>
                  <a:pt x="12397" y="11789"/>
                  <a:pt x="12358" y="11876"/>
                  <a:pt x="12154" y="11782"/>
                </a:cubicBezTo>
              </a:path>
              <a:path w="3325" h="4144">
                <a:moveTo>
                  <a:pt x="11981" y="12080"/>
                </a:moveTo>
                <a:cubicBezTo>
                  <a:pt x="12206" y="12103"/>
                  <a:pt x="12434" y="12079"/>
                  <a:pt x="12650" y="12105"/>
                </a:cubicBezTo>
              </a:path>
              <a:path w="3325" h="4144">
                <a:moveTo>
                  <a:pt x="12378" y="12303"/>
                </a:moveTo>
                <a:cubicBezTo>
                  <a:pt x="12246" y="12284"/>
                  <a:pt x="12043" y="12300"/>
                  <a:pt x="12005" y="12477"/>
                </a:cubicBezTo>
                <a:cubicBezTo>
                  <a:pt x="11987" y="12561"/>
                  <a:pt x="12251" y="12685"/>
                  <a:pt x="12303" y="12774"/>
                </a:cubicBezTo>
                <a:cubicBezTo>
                  <a:pt x="12287" y="12799"/>
                  <a:pt x="12270" y="12824"/>
                  <a:pt x="12254" y="12849"/>
                </a:cubicBezTo>
                <a:cubicBezTo>
                  <a:pt x="12047" y="12769"/>
                  <a:pt x="12157" y="12647"/>
                  <a:pt x="12229" y="12452"/>
                </a:cubicBezTo>
                <a:cubicBezTo>
                  <a:pt x="12245" y="12411"/>
                  <a:pt x="12262" y="12369"/>
                  <a:pt x="12278" y="1232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0840" y="5384880"/>
            <a:ext cx="795240" cy="536400"/>
          </a:xfrm>
          <a:custGeom>
            <a:avLst/>
            <a:gdLst/>
            <a:ahLst/>
            <a:rect l="l" t="t" r="r" b="b"/>
            <a:pathLst>
              <a:path w="2209" h="1490">
                <a:moveTo>
                  <a:pt x="11559" y="15106"/>
                </a:moveTo>
                <a:cubicBezTo>
                  <a:pt x="11643" y="15099"/>
                  <a:pt x="11723" y="15088"/>
                  <a:pt x="11807" y="15081"/>
                </a:cubicBezTo>
                <a:cubicBezTo>
                  <a:pt x="11783" y="15188"/>
                  <a:pt x="11722" y="15294"/>
                  <a:pt x="11683" y="15404"/>
                </a:cubicBezTo>
              </a:path>
              <a:path w="2209" h="1490">
                <a:moveTo>
                  <a:pt x="11460" y="15577"/>
                </a:moveTo>
                <a:cubicBezTo>
                  <a:pt x="11607" y="15552"/>
                  <a:pt x="11767" y="15541"/>
                  <a:pt x="11906" y="15503"/>
                </a:cubicBezTo>
              </a:path>
              <a:path w="2209" h="1490">
                <a:moveTo>
                  <a:pt x="11733" y="15677"/>
                </a:moveTo>
                <a:cubicBezTo>
                  <a:pt x="11643" y="15686"/>
                  <a:pt x="11617" y="15693"/>
                  <a:pt x="11559" y="15751"/>
                </a:cubicBezTo>
                <a:cubicBezTo>
                  <a:pt x="11590" y="15814"/>
                  <a:pt x="11754" y="15864"/>
                  <a:pt x="11757" y="15949"/>
                </a:cubicBezTo>
                <a:cubicBezTo>
                  <a:pt x="11737" y="16032"/>
                  <a:pt x="11747" y="16065"/>
                  <a:pt x="11683" y="16049"/>
                </a:cubicBezTo>
                <a:cubicBezTo>
                  <a:pt x="11607" y="15882"/>
                  <a:pt x="11705" y="15935"/>
                  <a:pt x="11782" y="15801"/>
                </a:cubicBezTo>
                <a:cubicBezTo>
                  <a:pt x="11782" y="15751"/>
                  <a:pt x="11782" y="15734"/>
                  <a:pt x="11782" y="15701"/>
                </a:cubicBezTo>
              </a:path>
              <a:path w="2209" h="1490">
                <a:moveTo>
                  <a:pt x="10691" y="15280"/>
                </a:moveTo>
                <a:cubicBezTo>
                  <a:pt x="10750" y="15457"/>
                  <a:pt x="10685" y="15611"/>
                  <a:pt x="10641" y="15801"/>
                </a:cubicBezTo>
                <a:cubicBezTo>
                  <a:pt x="10616" y="15909"/>
                  <a:pt x="10571" y="16029"/>
                  <a:pt x="10740" y="16024"/>
                </a:cubicBezTo>
                <a:cubicBezTo>
                  <a:pt x="10885" y="16020"/>
                  <a:pt x="11005" y="15931"/>
                  <a:pt x="11038" y="15801"/>
                </a:cubicBezTo>
                <a:cubicBezTo>
                  <a:pt x="11038" y="15784"/>
                  <a:pt x="11038" y="15768"/>
                  <a:pt x="11038" y="15751"/>
                </a:cubicBezTo>
                <a:cubicBezTo>
                  <a:pt x="10901" y="15736"/>
                  <a:pt x="10862" y="15830"/>
                  <a:pt x="10790" y="15949"/>
                </a:cubicBezTo>
              </a:path>
              <a:path w="2209" h="1490">
                <a:moveTo>
                  <a:pt x="10344" y="16222"/>
                </a:moveTo>
                <a:cubicBezTo>
                  <a:pt x="10567" y="16299"/>
                  <a:pt x="10763" y="16336"/>
                  <a:pt x="11013" y="16346"/>
                </a:cubicBezTo>
                <a:cubicBezTo>
                  <a:pt x="11399" y="16361"/>
                  <a:pt x="11825" y="16349"/>
                  <a:pt x="12154" y="16123"/>
                </a:cubicBezTo>
                <a:cubicBezTo>
                  <a:pt x="12529" y="15866"/>
                  <a:pt x="12401" y="15438"/>
                  <a:pt x="12080" y="15230"/>
                </a:cubicBezTo>
                <a:cubicBezTo>
                  <a:pt x="11684" y="14974"/>
                  <a:pt x="11207" y="14868"/>
                  <a:pt x="10765" y="15056"/>
                </a:cubicBezTo>
                <a:cubicBezTo>
                  <a:pt x="10554" y="15146"/>
                  <a:pt x="10311" y="15273"/>
                  <a:pt x="10220" y="15503"/>
                </a:cubicBezTo>
                <a:cubicBezTo>
                  <a:pt x="10091" y="15830"/>
                  <a:pt x="10164" y="16141"/>
                  <a:pt x="10468" y="16321"/>
                </a:cubicBezTo>
                <a:cubicBezTo>
                  <a:pt x="10619" y="16410"/>
                  <a:pt x="10798" y="16413"/>
                  <a:pt x="10964" y="1644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63920" y="2303640"/>
            <a:ext cx="2502000" cy="866520"/>
          </a:xfrm>
          <a:custGeom>
            <a:avLst/>
            <a:gdLst/>
            <a:ahLst/>
            <a:rect l="l" t="t" r="r" b="b"/>
            <a:pathLst>
              <a:path w="6947" h="2407">
                <a:moveTo>
                  <a:pt x="9823" y="7689"/>
                </a:moveTo>
                <a:cubicBezTo>
                  <a:pt x="9840" y="7870"/>
                  <a:pt x="9833" y="8008"/>
                  <a:pt x="9798" y="8186"/>
                </a:cubicBezTo>
              </a:path>
              <a:path w="6947" h="2407">
                <a:moveTo>
                  <a:pt x="9699" y="7913"/>
                </a:moveTo>
                <a:cubicBezTo>
                  <a:pt x="9841" y="7898"/>
                  <a:pt x="9978" y="7867"/>
                  <a:pt x="10120" y="7838"/>
                </a:cubicBezTo>
              </a:path>
              <a:path w="6947" h="2407">
                <a:moveTo>
                  <a:pt x="12105" y="7392"/>
                </a:moveTo>
                <a:cubicBezTo>
                  <a:pt x="12133" y="7513"/>
                  <a:pt x="12148" y="7616"/>
                  <a:pt x="12154" y="7739"/>
                </a:cubicBezTo>
              </a:path>
              <a:path w="6947" h="2407">
                <a:moveTo>
                  <a:pt x="11807" y="7913"/>
                </a:moveTo>
                <a:cubicBezTo>
                  <a:pt x="12032" y="7868"/>
                  <a:pt x="12251" y="7809"/>
                  <a:pt x="12477" y="7789"/>
                </a:cubicBezTo>
              </a:path>
              <a:path w="6947" h="2407">
                <a:moveTo>
                  <a:pt x="12055" y="8012"/>
                </a:moveTo>
                <a:cubicBezTo>
                  <a:pt x="12217" y="7954"/>
                  <a:pt x="12213" y="7947"/>
                  <a:pt x="12353" y="8037"/>
                </a:cubicBezTo>
                <a:cubicBezTo>
                  <a:pt x="12316" y="8194"/>
                  <a:pt x="12290" y="8217"/>
                  <a:pt x="12154" y="8310"/>
                </a:cubicBezTo>
                <a:cubicBezTo>
                  <a:pt x="12018" y="8282"/>
                  <a:pt x="12312" y="8230"/>
                  <a:pt x="12378" y="8260"/>
                </a:cubicBezTo>
                <a:cubicBezTo>
                  <a:pt x="12651" y="8384"/>
                  <a:pt x="12250" y="8588"/>
                  <a:pt x="12129" y="8582"/>
                </a:cubicBezTo>
                <a:cubicBezTo>
                  <a:pt x="12071" y="8566"/>
                  <a:pt x="12014" y="8549"/>
                  <a:pt x="11956" y="8533"/>
                </a:cubicBezTo>
              </a:path>
              <a:path w="6947" h="2407">
                <a:moveTo>
                  <a:pt x="9624" y="8657"/>
                </a:moveTo>
                <a:cubicBezTo>
                  <a:pt x="10094" y="8712"/>
                  <a:pt x="10565" y="8732"/>
                  <a:pt x="11038" y="8756"/>
                </a:cubicBezTo>
                <a:cubicBezTo>
                  <a:pt x="11717" y="8790"/>
                  <a:pt x="12392" y="8806"/>
                  <a:pt x="13072" y="8806"/>
                </a:cubicBezTo>
                <a:cubicBezTo>
                  <a:pt x="13365" y="8806"/>
                  <a:pt x="13648" y="8793"/>
                  <a:pt x="13940" y="8781"/>
                </a:cubicBezTo>
              </a:path>
              <a:path w="6947" h="2407">
                <a:moveTo>
                  <a:pt x="11137" y="7615"/>
                </a:moveTo>
                <a:cubicBezTo>
                  <a:pt x="11033" y="7557"/>
                  <a:pt x="10983" y="7518"/>
                  <a:pt x="10864" y="7565"/>
                </a:cubicBezTo>
                <a:cubicBezTo>
                  <a:pt x="10745" y="7612"/>
                  <a:pt x="10690" y="7699"/>
                  <a:pt x="10641" y="7813"/>
                </a:cubicBezTo>
                <a:cubicBezTo>
                  <a:pt x="10589" y="7934"/>
                  <a:pt x="10637" y="8061"/>
                  <a:pt x="10641" y="8186"/>
                </a:cubicBezTo>
                <a:cubicBezTo>
                  <a:pt x="10644" y="8277"/>
                  <a:pt x="10651" y="8390"/>
                  <a:pt x="10740" y="8434"/>
                </a:cubicBezTo>
                <a:cubicBezTo>
                  <a:pt x="10835" y="8481"/>
                  <a:pt x="10976" y="8431"/>
                  <a:pt x="11063" y="8384"/>
                </a:cubicBezTo>
                <a:cubicBezTo>
                  <a:pt x="11155" y="8334"/>
                  <a:pt x="11209" y="8225"/>
                  <a:pt x="11261" y="8136"/>
                </a:cubicBezTo>
                <a:cubicBezTo>
                  <a:pt x="11293" y="8081"/>
                  <a:pt x="11301" y="7975"/>
                  <a:pt x="11286" y="7913"/>
                </a:cubicBezTo>
                <a:cubicBezTo>
                  <a:pt x="11274" y="7862"/>
                  <a:pt x="11218" y="7777"/>
                  <a:pt x="11187" y="7739"/>
                </a:cubicBezTo>
                <a:cubicBezTo>
                  <a:pt x="11153" y="7697"/>
                  <a:pt x="11121" y="7657"/>
                  <a:pt x="11088" y="7615"/>
                </a:cubicBezTo>
              </a:path>
              <a:path w="6947" h="2407">
                <a:moveTo>
                  <a:pt x="13915" y="7987"/>
                </a:moveTo>
                <a:cubicBezTo>
                  <a:pt x="13915" y="8144"/>
                  <a:pt x="13915" y="8301"/>
                  <a:pt x="13915" y="8458"/>
                </a:cubicBezTo>
              </a:path>
              <a:path w="6947" h="2407">
                <a:moveTo>
                  <a:pt x="14139" y="7987"/>
                </a:moveTo>
                <a:cubicBezTo>
                  <a:pt x="14223" y="7931"/>
                  <a:pt x="14260" y="7912"/>
                  <a:pt x="14337" y="7913"/>
                </a:cubicBezTo>
                <a:cubicBezTo>
                  <a:pt x="14422" y="8066"/>
                  <a:pt x="14054" y="8287"/>
                  <a:pt x="14213" y="8359"/>
                </a:cubicBezTo>
                <a:cubicBezTo>
                  <a:pt x="14362" y="8317"/>
                  <a:pt x="14394" y="8307"/>
                  <a:pt x="14486" y="8285"/>
                </a:cubicBezTo>
              </a:path>
              <a:path w="6947" h="2407">
                <a:moveTo>
                  <a:pt x="12601" y="7863"/>
                </a:moveTo>
                <a:cubicBezTo>
                  <a:pt x="12690" y="7928"/>
                  <a:pt x="12736" y="7953"/>
                  <a:pt x="12750" y="8062"/>
                </a:cubicBezTo>
              </a:path>
              <a:path w="6947" h="2407">
                <a:moveTo>
                  <a:pt x="12774" y="7888"/>
                </a:moveTo>
                <a:cubicBezTo>
                  <a:pt x="12736" y="7986"/>
                  <a:pt x="12710" y="8082"/>
                  <a:pt x="12700" y="8186"/>
                </a:cubicBezTo>
              </a:path>
              <a:path w="6947" h="2407">
                <a:moveTo>
                  <a:pt x="13271" y="8161"/>
                </a:moveTo>
                <a:cubicBezTo>
                  <a:pt x="13259" y="8261"/>
                  <a:pt x="13222" y="8423"/>
                  <a:pt x="13395" y="8334"/>
                </a:cubicBezTo>
                <a:cubicBezTo>
                  <a:pt x="13428" y="8309"/>
                  <a:pt x="13461" y="8285"/>
                  <a:pt x="13494" y="8260"/>
                </a:cubicBezTo>
              </a:path>
              <a:path w="6947" h="2407">
                <a:moveTo>
                  <a:pt x="13469" y="8086"/>
                </a:moveTo>
                <a:cubicBezTo>
                  <a:pt x="13433" y="8255"/>
                  <a:pt x="13419" y="8385"/>
                  <a:pt x="13419" y="8558"/>
                </a:cubicBezTo>
              </a:path>
              <a:path w="6947" h="2407">
                <a:moveTo>
                  <a:pt x="13122" y="7962"/>
                </a:moveTo>
                <a:cubicBezTo>
                  <a:pt x="13201" y="7923"/>
                  <a:pt x="13260" y="7855"/>
                  <a:pt x="13345" y="7838"/>
                </a:cubicBezTo>
              </a:path>
              <a:path w="6947" h="2407">
                <a:moveTo>
                  <a:pt x="13097" y="7565"/>
                </a:moveTo>
                <a:cubicBezTo>
                  <a:pt x="13085" y="7745"/>
                  <a:pt x="13041" y="7754"/>
                  <a:pt x="13221" y="7665"/>
                </a:cubicBezTo>
              </a:path>
              <a:path w="6947" h="2407">
                <a:moveTo>
                  <a:pt x="13196" y="7417"/>
                </a:moveTo>
                <a:cubicBezTo>
                  <a:pt x="13203" y="7561"/>
                  <a:pt x="13220" y="7695"/>
                  <a:pt x="13246" y="7838"/>
                </a:cubicBezTo>
              </a:path>
              <a:path w="6947" h="2407">
                <a:moveTo>
                  <a:pt x="13667" y="7838"/>
                </a:moveTo>
                <a:cubicBezTo>
                  <a:pt x="13933" y="7812"/>
                  <a:pt x="14197" y="7743"/>
                  <a:pt x="14461" y="7689"/>
                </a:cubicBezTo>
                <a:cubicBezTo>
                  <a:pt x="14552" y="7671"/>
                  <a:pt x="14559" y="7663"/>
                  <a:pt x="14610" y="7665"/>
                </a:cubicBezTo>
              </a:path>
              <a:path w="6947" h="2407">
                <a:moveTo>
                  <a:pt x="13494" y="7962"/>
                </a:moveTo>
                <a:cubicBezTo>
                  <a:pt x="13560" y="7911"/>
                  <a:pt x="13583" y="7897"/>
                  <a:pt x="13667" y="7888"/>
                </a:cubicBezTo>
              </a:path>
              <a:path w="6947" h="2407">
                <a:moveTo>
                  <a:pt x="13494" y="8062"/>
                </a:moveTo>
                <a:cubicBezTo>
                  <a:pt x="13571" y="8046"/>
                  <a:pt x="13641" y="8016"/>
                  <a:pt x="13717" y="7987"/>
                </a:cubicBezTo>
              </a:path>
              <a:path w="6947" h="2407">
                <a:moveTo>
                  <a:pt x="13717" y="7293"/>
                </a:moveTo>
                <a:cubicBezTo>
                  <a:pt x="13791" y="7451"/>
                  <a:pt x="13734" y="7524"/>
                  <a:pt x="13940" y="7441"/>
                </a:cubicBezTo>
                <a:cubicBezTo>
                  <a:pt x="14021" y="7401"/>
                  <a:pt x="14034" y="7385"/>
                  <a:pt x="14089" y="7392"/>
                </a:cubicBezTo>
              </a:path>
              <a:path w="6947" h="2407">
                <a:moveTo>
                  <a:pt x="14039" y="7119"/>
                </a:moveTo>
                <a:cubicBezTo>
                  <a:pt x="14000" y="7308"/>
                  <a:pt x="13990" y="7471"/>
                  <a:pt x="13990" y="7665"/>
                </a:cubicBezTo>
              </a:path>
              <a:path w="6947" h="2407">
                <a:moveTo>
                  <a:pt x="11981" y="7317"/>
                </a:moveTo>
                <a:cubicBezTo>
                  <a:pt x="12096" y="7517"/>
                  <a:pt x="12216" y="7627"/>
                  <a:pt x="12402" y="7764"/>
                </a:cubicBezTo>
                <a:cubicBezTo>
                  <a:pt x="12682" y="7970"/>
                  <a:pt x="13156" y="8395"/>
                  <a:pt x="13494" y="8508"/>
                </a:cubicBezTo>
                <a:cubicBezTo>
                  <a:pt x="13510" y="8508"/>
                  <a:pt x="13527" y="8508"/>
                  <a:pt x="13543" y="8508"/>
                </a:cubicBezTo>
              </a:path>
              <a:path w="6947" h="2407">
                <a:moveTo>
                  <a:pt x="13345" y="7417"/>
                </a:moveTo>
                <a:cubicBezTo>
                  <a:pt x="13181" y="7380"/>
                  <a:pt x="13122" y="7503"/>
                  <a:pt x="12998" y="7615"/>
                </a:cubicBezTo>
                <a:cubicBezTo>
                  <a:pt x="12696" y="7887"/>
                  <a:pt x="12368" y="8126"/>
                  <a:pt x="12055" y="8384"/>
                </a:cubicBezTo>
                <a:cubicBezTo>
                  <a:pt x="12038" y="8401"/>
                  <a:pt x="12022" y="8417"/>
                  <a:pt x="12005" y="8434"/>
                </a:cubicBezTo>
              </a:path>
              <a:path w="6947" h="2407">
                <a:moveTo>
                  <a:pt x="14982" y="7169"/>
                </a:moveTo>
                <a:cubicBezTo>
                  <a:pt x="15056" y="7169"/>
                  <a:pt x="15131" y="7169"/>
                  <a:pt x="15205" y="7169"/>
                </a:cubicBezTo>
              </a:path>
              <a:path w="6947" h="2407">
                <a:moveTo>
                  <a:pt x="15056" y="7367"/>
                </a:moveTo>
                <a:cubicBezTo>
                  <a:pt x="15156" y="7342"/>
                  <a:pt x="15189" y="7334"/>
                  <a:pt x="15255" y="7317"/>
                </a:cubicBezTo>
              </a:path>
              <a:path w="6947" h="2407">
                <a:moveTo>
                  <a:pt x="15875" y="7293"/>
                </a:moveTo>
                <a:cubicBezTo>
                  <a:pt x="15889" y="7459"/>
                  <a:pt x="15919" y="7621"/>
                  <a:pt x="15925" y="7789"/>
                </a:cubicBezTo>
                <a:cubicBezTo>
                  <a:pt x="15925" y="7797"/>
                  <a:pt x="15925" y="7805"/>
                  <a:pt x="15925" y="7813"/>
                </a:cubicBezTo>
              </a:path>
              <a:path w="6947" h="2407">
                <a:moveTo>
                  <a:pt x="16222" y="7342"/>
                </a:moveTo>
                <a:cubicBezTo>
                  <a:pt x="16310" y="7298"/>
                  <a:pt x="16332" y="7282"/>
                  <a:pt x="16396" y="7293"/>
                </a:cubicBezTo>
                <a:cubicBezTo>
                  <a:pt x="16396" y="7448"/>
                  <a:pt x="16346" y="7546"/>
                  <a:pt x="16297" y="7689"/>
                </a:cubicBezTo>
                <a:cubicBezTo>
                  <a:pt x="16272" y="7760"/>
                  <a:pt x="16534" y="7653"/>
                  <a:pt x="16570" y="7640"/>
                </a:cubicBezTo>
              </a:path>
              <a:path w="6947" h="2407">
                <a:moveTo>
                  <a:pt x="15825" y="7169"/>
                </a:moveTo>
                <a:cubicBezTo>
                  <a:pt x="16035" y="7080"/>
                  <a:pt x="16217" y="7052"/>
                  <a:pt x="16446" y="7045"/>
                </a:cubicBezTo>
                <a:cubicBezTo>
                  <a:pt x="16462" y="7045"/>
                  <a:pt x="16479" y="7045"/>
                  <a:pt x="16495" y="7045"/>
                </a:cubicBezTo>
              </a:path>
              <a:path w="6947" h="2407">
                <a:moveTo>
                  <a:pt x="15801" y="6474"/>
                </a:moveTo>
                <a:cubicBezTo>
                  <a:pt x="15801" y="6523"/>
                  <a:pt x="15830" y="6460"/>
                  <a:pt x="15949" y="6424"/>
                </a:cubicBezTo>
                <a:cubicBezTo>
                  <a:pt x="16041" y="6396"/>
                  <a:pt x="16126" y="6355"/>
                  <a:pt x="16123" y="6499"/>
                </a:cubicBezTo>
                <a:cubicBezTo>
                  <a:pt x="16120" y="6639"/>
                  <a:pt x="16071" y="6784"/>
                  <a:pt x="16049" y="69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6160" y="2054160"/>
            <a:ext cx="804960" cy="527040"/>
          </a:xfrm>
          <a:custGeom>
            <a:avLst/>
            <a:gdLst/>
            <a:ahLst/>
            <a:rect l="l" t="t" r="r" b="b"/>
            <a:pathLst>
              <a:path w="2234" h="1465">
                <a:moveTo>
                  <a:pt x="13543" y="6697"/>
                </a:moveTo>
                <a:cubicBezTo>
                  <a:pt x="13567" y="6801"/>
                  <a:pt x="13598" y="6895"/>
                  <a:pt x="13618" y="6995"/>
                </a:cubicBezTo>
              </a:path>
              <a:path w="2234" h="1465">
                <a:moveTo>
                  <a:pt x="13767" y="6623"/>
                </a:moveTo>
                <a:cubicBezTo>
                  <a:pt x="13841" y="6623"/>
                  <a:pt x="13885" y="6612"/>
                  <a:pt x="13965" y="6598"/>
                </a:cubicBezTo>
                <a:cubicBezTo>
                  <a:pt x="13952" y="6737"/>
                  <a:pt x="13913" y="6828"/>
                  <a:pt x="13866" y="6945"/>
                </a:cubicBezTo>
                <a:cubicBezTo>
                  <a:pt x="13962" y="6938"/>
                  <a:pt x="14046" y="6922"/>
                  <a:pt x="14139" y="6896"/>
                </a:cubicBezTo>
              </a:path>
              <a:path w="2234" h="1465">
                <a:moveTo>
                  <a:pt x="13419" y="6548"/>
                </a:moveTo>
                <a:cubicBezTo>
                  <a:pt x="13600" y="6499"/>
                  <a:pt x="13795" y="6401"/>
                  <a:pt x="13990" y="6400"/>
                </a:cubicBezTo>
                <a:cubicBezTo>
                  <a:pt x="13998" y="6408"/>
                  <a:pt x="14007" y="6416"/>
                  <a:pt x="14015" y="6424"/>
                </a:cubicBezTo>
              </a:path>
              <a:path w="2234" h="1465">
                <a:moveTo>
                  <a:pt x="12452" y="6176"/>
                </a:moveTo>
                <a:cubicBezTo>
                  <a:pt x="12538" y="6299"/>
                  <a:pt x="12583" y="6382"/>
                  <a:pt x="12626" y="6524"/>
                </a:cubicBezTo>
              </a:path>
              <a:path w="2234" h="1465">
                <a:moveTo>
                  <a:pt x="12601" y="6152"/>
                </a:moveTo>
                <a:cubicBezTo>
                  <a:pt x="12550" y="6292"/>
                  <a:pt x="12510" y="6427"/>
                  <a:pt x="12477" y="6573"/>
                </a:cubicBezTo>
              </a:path>
              <a:path w="2234" h="1465">
                <a:moveTo>
                  <a:pt x="12750" y="6548"/>
                </a:moveTo>
                <a:cubicBezTo>
                  <a:pt x="12843" y="6548"/>
                  <a:pt x="13013" y="6513"/>
                  <a:pt x="12923" y="6672"/>
                </a:cubicBezTo>
                <a:cubicBezTo>
                  <a:pt x="12898" y="6697"/>
                  <a:pt x="12874" y="6722"/>
                  <a:pt x="12849" y="6747"/>
                </a:cubicBezTo>
                <a:cubicBezTo>
                  <a:pt x="12947" y="6688"/>
                  <a:pt x="12962" y="6649"/>
                  <a:pt x="13022" y="6697"/>
                </a:cubicBezTo>
                <a:cubicBezTo>
                  <a:pt x="12992" y="6850"/>
                  <a:pt x="12997" y="6836"/>
                  <a:pt x="12849" y="6896"/>
                </a:cubicBezTo>
              </a:path>
              <a:path w="2234" h="1465">
                <a:moveTo>
                  <a:pt x="12774" y="6375"/>
                </a:moveTo>
                <a:cubicBezTo>
                  <a:pt x="12843" y="6370"/>
                  <a:pt x="12905" y="6360"/>
                  <a:pt x="12973" y="6350"/>
                </a:cubicBezTo>
              </a:path>
              <a:path w="2234" h="1465">
                <a:moveTo>
                  <a:pt x="12725" y="5928"/>
                </a:moveTo>
                <a:cubicBezTo>
                  <a:pt x="12802" y="5894"/>
                  <a:pt x="12889" y="5835"/>
                  <a:pt x="12898" y="5953"/>
                </a:cubicBezTo>
                <a:cubicBezTo>
                  <a:pt x="12898" y="6037"/>
                  <a:pt x="12911" y="6064"/>
                  <a:pt x="12849" y="6077"/>
                </a:cubicBezTo>
                <a:cubicBezTo>
                  <a:pt x="12983" y="6098"/>
                  <a:pt x="13048" y="6188"/>
                  <a:pt x="12898" y="6300"/>
                </a:cubicBezTo>
                <a:cubicBezTo>
                  <a:pt x="12873" y="6308"/>
                  <a:pt x="12849" y="6317"/>
                  <a:pt x="12824" y="6325"/>
                </a:cubicBezTo>
              </a:path>
              <a:path w="2234" h="1465">
                <a:moveTo>
                  <a:pt x="13419" y="5804"/>
                </a:moveTo>
                <a:cubicBezTo>
                  <a:pt x="13446" y="5750"/>
                  <a:pt x="13458" y="5730"/>
                  <a:pt x="13494" y="5705"/>
                </a:cubicBezTo>
                <a:cubicBezTo>
                  <a:pt x="13540" y="5890"/>
                  <a:pt x="13541" y="5888"/>
                  <a:pt x="13444" y="6052"/>
                </a:cubicBezTo>
                <a:cubicBezTo>
                  <a:pt x="13625" y="6001"/>
                  <a:pt x="13773" y="6098"/>
                  <a:pt x="13618" y="6300"/>
                </a:cubicBezTo>
                <a:cubicBezTo>
                  <a:pt x="13543" y="6398"/>
                  <a:pt x="13466" y="6394"/>
                  <a:pt x="13370" y="6375"/>
                </a:cubicBezTo>
              </a:path>
              <a:path w="2234" h="1465">
                <a:moveTo>
                  <a:pt x="11906" y="5804"/>
                </a:moveTo>
                <a:cubicBezTo>
                  <a:pt x="12205" y="6113"/>
                  <a:pt x="12559" y="6336"/>
                  <a:pt x="12874" y="6623"/>
                </a:cubicBezTo>
                <a:cubicBezTo>
                  <a:pt x="12950" y="6692"/>
                  <a:pt x="13021" y="6795"/>
                  <a:pt x="13097" y="6871"/>
                </a:cubicBezTo>
              </a:path>
              <a:path w="2234" h="1465">
                <a:moveTo>
                  <a:pt x="12948" y="5904"/>
                </a:moveTo>
                <a:cubicBezTo>
                  <a:pt x="12680" y="6191"/>
                  <a:pt x="12475" y="6517"/>
                  <a:pt x="12229" y="6821"/>
                </a:cubicBezTo>
                <a:cubicBezTo>
                  <a:pt x="12052" y="7017"/>
                  <a:pt x="12019" y="7044"/>
                  <a:pt x="11931" y="716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59080" y="4483080"/>
            <a:ext cx="2822760" cy="965160"/>
          </a:xfrm>
          <a:custGeom>
            <a:avLst/>
            <a:gdLst/>
            <a:ahLst/>
            <a:rect l="l" t="t" r="r" b="b"/>
            <a:pathLst>
              <a:path w="7839" h="2680">
                <a:moveTo>
                  <a:pt x="9748" y="13791"/>
                </a:moveTo>
                <a:cubicBezTo>
                  <a:pt x="9748" y="13958"/>
                  <a:pt x="9728" y="14121"/>
                  <a:pt x="9723" y="14288"/>
                </a:cubicBezTo>
                <a:cubicBezTo>
                  <a:pt x="9723" y="14304"/>
                  <a:pt x="9723" y="14321"/>
                  <a:pt x="9723" y="14337"/>
                </a:cubicBezTo>
              </a:path>
              <a:path w="7839" h="2680">
                <a:moveTo>
                  <a:pt x="9525" y="14114"/>
                </a:moveTo>
                <a:cubicBezTo>
                  <a:pt x="9674" y="14080"/>
                  <a:pt x="9821" y="14045"/>
                  <a:pt x="9971" y="14015"/>
                </a:cubicBezTo>
              </a:path>
              <a:path w="7839" h="2680">
                <a:moveTo>
                  <a:pt x="10468" y="13767"/>
                </a:moveTo>
                <a:cubicBezTo>
                  <a:pt x="10457" y="13901"/>
                  <a:pt x="10439" y="14001"/>
                  <a:pt x="10368" y="14114"/>
                </a:cubicBezTo>
                <a:cubicBezTo>
                  <a:pt x="10521" y="14097"/>
                  <a:pt x="10664" y="14055"/>
                  <a:pt x="10815" y="14039"/>
                </a:cubicBezTo>
              </a:path>
              <a:path w="7839" h="2680">
                <a:moveTo>
                  <a:pt x="10740" y="13593"/>
                </a:moveTo>
                <a:cubicBezTo>
                  <a:pt x="10699" y="13885"/>
                  <a:pt x="10680" y="14175"/>
                  <a:pt x="10616" y="14461"/>
                </a:cubicBezTo>
                <a:cubicBezTo>
                  <a:pt x="10608" y="14494"/>
                  <a:pt x="10600" y="14527"/>
                  <a:pt x="10592" y="14560"/>
                </a:cubicBezTo>
              </a:path>
              <a:path w="7839" h="2680">
                <a:moveTo>
                  <a:pt x="12105" y="13469"/>
                </a:moveTo>
                <a:cubicBezTo>
                  <a:pt x="12119" y="13552"/>
                  <a:pt x="12128" y="13648"/>
                  <a:pt x="12154" y="13717"/>
                </a:cubicBezTo>
              </a:path>
              <a:path w="7839" h="2680">
                <a:moveTo>
                  <a:pt x="11782" y="13891"/>
                </a:moveTo>
                <a:cubicBezTo>
                  <a:pt x="12022" y="13865"/>
                  <a:pt x="12262" y="13831"/>
                  <a:pt x="12502" y="13816"/>
                </a:cubicBezTo>
              </a:path>
              <a:path w="7839" h="2680">
                <a:moveTo>
                  <a:pt x="11832" y="14114"/>
                </a:moveTo>
                <a:cubicBezTo>
                  <a:pt x="11991" y="14103"/>
                  <a:pt x="12075" y="14092"/>
                  <a:pt x="12229" y="14139"/>
                </a:cubicBezTo>
                <a:cubicBezTo>
                  <a:pt x="12112" y="14314"/>
                  <a:pt x="11979" y="14435"/>
                  <a:pt x="11807" y="14560"/>
                </a:cubicBezTo>
                <a:cubicBezTo>
                  <a:pt x="11998" y="14533"/>
                  <a:pt x="12188" y="14478"/>
                  <a:pt x="12378" y="14436"/>
                </a:cubicBezTo>
              </a:path>
              <a:path w="7839" h="2680">
                <a:moveTo>
                  <a:pt x="9054" y="14982"/>
                </a:moveTo>
                <a:cubicBezTo>
                  <a:pt x="9647" y="14895"/>
                  <a:pt x="10214" y="14903"/>
                  <a:pt x="10815" y="14932"/>
                </a:cubicBezTo>
                <a:cubicBezTo>
                  <a:pt x="11637" y="14972"/>
                  <a:pt x="12454" y="15049"/>
                  <a:pt x="13271" y="15131"/>
                </a:cubicBezTo>
                <a:cubicBezTo>
                  <a:pt x="13304" y="15131"/>
                  <a:pt x="13337" y="15131"/>
                  <a:pt x="13370" y="15131"/>
                </a:cubicBezTo>
              </a:path>
              <a:path w="7839" h="2680">
                <a:moveTo>
                  <a:pt x="12725" y="13717"/>
                </a:moveTo>
                <a:cubicBezTo>
                  <a:pt x="12747" y="13841"/>
                  <a:pt x="12759" y="13964"/>
                  <a:pt x="12774" y="14089"/>
                </a:cubicBezTo>
              </a:path>
              <a:path w="7839" h="2680">
                <a:moveTo>
                  <a:pt x="12849" y="13767"/>
                </a:moveTo>
                <a:cubicBezTo>
                  <a:pt x="12808" y="13890"/>
                  <a:pt x="12755" y="14015"/>
                  <a:pt x="12725" y="14139"/>
                </a:cubicBezTo>
              </a:path>
              <a:path w="7839" h="2680">
                <a:moveTo>
                  <a:pt x="13866" y="13742"/>
                </a:moveTo>
                <a:cubicBezTo>
                  <a:pt x="13940" y="13742"/>
                  <a:pt x="14015" y="13742"/>
                  <a:pt x="14089" y="13742"/>
                </a:cubicBezTo>
              </a:path>
              <a:path w="7839" h="2680">
                <a:moveTo>
                  <a:pt x="13891" y="13866"/>
                </a:moveTo>
                <a:cubicBezTo>
                  <a:pt x="13982" y="13866"/>
                  <a:pt x="14023" y="13866"/>
                  <a:pt x="14089" y="13866"/>
                </a:cubicBezTo>
              </a:path>
              <a:path w="7839" h="2680">
                <a:moveTo>
                  <a:pt x="14610" y="13915"/>
                </a:moveTo>
                <a:cubicBezTo>
                  <a:pt x="14497" y="13975"/>
                  <a:pt x="14454" y="13997"/>
                  <a:pt x="14362" y="14089"/>
                </a:cubicBezTo>
                <a:cubicBezTo>
                  <a:pt x="14548" y="14213"/>
                  <a:pt x="14611" y="14241"/>
                  <a:pt x="14486" y="14436"/>
                </a:cubicBezTo>
                <a:cubicBezTo>
                  <a:pt x="14404" y="14291"/>
                  <a:pt x="14511" y="14188"/>
                  <a:pt x="14610" y="14039"/>
                </a:cubicBezTo>
              </a:path>
              <a:path w="7839" h="2680">
                <a:moveTo>
                  <a:pt x="14560" y="13618"/>
                </a:moveTo>
                <a:cubicBezTo>
                  <a:pt x="14692" y="13598"/>
                  <a:pt x="14809" y="13572"/>
                  <a:pt x="14932" y="13593"/>
                </a:cubicBezTo>
              </a:path>
              <a:path w="7839" h="2680">
                <a:moveTo>
                  <a:pt x="13246" y="13841"/>
                </a:moveTo>
                <a:cubicBezTo>
                  <a:pt x="13187" y="14004"/>
                  <a:pt x="13205" y="14001"/>
                  <a:pt x="13370" y="13965"/>
                </a:cubicBezTo>
              </a:path>
              <a:path w="7839" h="2680">
                <a:moveTo>
                  <a:pt x="13444" y="13866"/>
                </a:moveTo>
                <a:cubicBezTo>
                  <a:pt x="13393" y="13981"/>
                  <a:pt x="13354" y="14092"/>
                  <a:pt x="13320" y="14213"/>
                </a:cubicBezTo>
              </a:path>
              <a:path w="7839" h="2680">
                <a:moveTo>
                  <a:pt x="13196" y="13767"/>
                </a:moveTo>
                <a:cubicBezTo>
                  <a:pt x="13301" y="13735"/>
                  <a:pt x="13392" y="13720"/>
                  <a:pt x="13494" y="13692"/>
                </a:cubicBezTo>
              </a:path>
              <a:path w="7839" h="2680">
                <a:moveTo>
                  <a:pt x="13146" y="13345"/>
                </a:moveTo>
                <a:cubicBezTo>
                  <a:pt x="13159" y="13531"/>
                  <a:pt x="13193" y="13502"/>
                  <a:pt x="13345" y="13419"/>
                </a:cubicBezTo>
              </a:path>
              <a:path w="7839" h="2680">
                <a:moveTo>
                  <a:pt x="13271" y="13370"/>
                </a:moveTo>
                <a:cubicBezTo>
                  <a:pt x="13271" y="13428"/>
                  <a:pt x="13271" y="13485"/>
                  <a:pt x="13271" y="13543"/>
                </a:cubicBezTo>
              </a:path>
              <a:path w="7839" h="2680">
                <a:moveTo>
                  <a:pt x="12402" y="13692"/>
                </a:moveTo>
                <a:lnTo>
                  <a:pt x="12402" y="13692"/>
                </a:lnTo>
              </a:path>
              <a:path w="7839" h="2680">
                <a:moveTo>
                  <a:pt x="14436" y="13171"/>
                </a:moveTo>
                <a:cubicBezTo>
                  <a:pt x="14387" y="13298"/>
                  <a:pt x="14326" y="13384"/>
                  <a:pt x="14486" y="13419"/>
                </a:cubicBezTo>
                <a:cubicBezTo>
                  <a:pt x="14570" y="13419"/>
                  <a:pt x="14604" y="13417"/>
                  <a:pt x="14660" y="13395"/>
                </a:cubicBezTo>
              </a:path>
              <a:path w="7839" h="2680">
                <a:moveTo>
                  <a:pt x="14536" y="13072"/>
                </a:moveTo>
                <a:cubicBezTo>
                  <a:pt x="14547" y="13263"/>
                  <a:pt x="14560" y="13451"/>
                  <a:pt x="14560" y="13643"/>
                </a:cubicBezTo>
                <a:cubicBezTo>
                  <a:pt x="14560" y="13659"/>
                  <a:pt x="14560" y="13676"/>
                  <a:pt x="14560" y="13692"/>
                </a:cubicBezTo>
              </a:path>
              <a:path w="7839" h="2680">
                <a:moveTo>
                  <a:pt x="11881" y="13345"/>
                </a:moveTo>
                <a:cubicBezTo>
                  <a:pt x="12115" y="13529"/>
                  <a:pt x="12320" y="13727"/>
                  <a:pt x="12526" y="13940"/>
                </a:cubicBezTo>
                <a:cubicBezTo>
                  <a:pt x="12653" y="14072"/>
                  <a:pt x="12774" y="14204"/>
                  <a:pt x="12898" y="14337"/>
                </a:cubicBezTo>
                <a:cubicBezTo>
                  <a:pt x="12906" y="14345"/>
                  <a:pt x="12915" y="14354"/>
                  <a:pt x="12923" y="14362"/>
                </a:cubicBezTo>
              </a:path>
              <a:path w="7839" h="2680">
                <a:moveTo>
                  <a:pt x="11683" y="14461"/>
                </a:moveTo>
                <a:cubicBezTo>
                  <a:pt x="11996" y="14212"/>
                  <a:pt x="12353" y="13991"/>
                  <a:pt x="12700" y="13791"/>
                </a:cubicBezTo>
                <a:cubicBezTo>
                  <a:pt x="12920" y="13664"/>
                  <a:pt x="13150" y="13566"/>
                  <a:pt x="13370" y="13444"/>
                </a:cubicBezTo>
              </a:path>
              <a:path w="7839" h="2680">
                <a:moveTo>
                  <a:pt x="15503" y="13171"/>
                </a:moveTo>
                <a:cubicBezTo>
                  <a:pt x="15612" y="13185"/>
                  <a:pt x="15723" y="13193"/>
                  <a:pt x="15825" y="13221"/>
                </a:cubicBezTo>
              </a:path>
              <a:path w="7839" h="2680">
                <a:moveTo>
                  <a:pt x="15478" y="13444"/>
                </a:moveTo>
                <a:cubicBezTo>
                  <a:pt x="15602" y="13419"/>
                  <a:pt x="15643" y="13411"/>
                  <a:pt x="15726" y="13395"/>
                </a:cubicBezTo>
              </a:path>
              <a:path w="7839" h="2680">
                <a:moveTo>
                  <a:pt x="16470" y="13419"/>
                </a:moveTo>
                <a:cubicBezTo>
                  <a:pt x="16332" y="13465"/>
                  <a:pt x="16291" y="13475"/>
                  <a:pt x="16222" y="13543"/>
                </a:cubicBezTo>
                <a:cubicBezTo>
                  <a:pt x="16285" y="13656"/>
                  <a:pt x="16600" y="13704"/>
                  <a:pt x="16619" y="13841"/>
                </a:cubicBezTo>
                <a:cubicBezTo>
                  <a:pt x="16546" y="13914"/>
                  <a:pt x="16522" y="13939"/>
                  <a:pt x="16446" y="13940"/>
                </a:cubicBezTo>
                <a:cubicBezTo>
                  <a:pt x="16476" y="13791"/>
                  <a:pt x="16522" y="13735"/>
                  <a:pt x="16619" y="13618"/>
                </a:cubicBezTo>
              </a:path>
              <a:path w="7839" h="2680">
                <a:moveTo>
                  <a:pt x="16272" y="13122"/>
                </a:moveTo>
                <a:cubicBezTo>
                  <a:pt x="16421" y="13122"/>
                  <a:pt x="16569" y="13122"/>
                  <a:pt x="16718" y="13122"/>
                </a:cubicBezTo>
              </a:path>
              <a:path w="7839" h="2680">
                <a:moveTo>
                  <a:pt x="16123" y="12452"/>
                </a:moveTo>
                <a:cubicBezTo>
                  <a:pt x="16265" y="12459"/>
                  <a:pt x="16402" y="12477"/>
                  <a:pt x="16545" y="12477"/>
                </a:cubicBezTo>
                <a:cubicBezTo>
                  <a:pt x="16520" y="12624"/>
                  <a:pt x="16421" y="12747"/>
                  <a:pt x="16346" y="12874"/>
                </a:cubicBezTo>
              </a:path>
              <a:path w="7839" h="2680">
                <a:moveTo>
                  <a:pt x="16321" y="13171"/>
                </a:moveTo>
                <a:cubicBezTo>
                  <a:pt x="16296" y="13163"/>
                  <a:pt x="16272" y="13154"/>
                  <a:pt x="16247" y="13146"/>
                </a:cubicBezTo>
                <a:cubicBezTo>
                  <a:pt x="16194" y="13070"/>
                  <a:pt x="16670" y="13125"/>
                  <a:pt x="16718" y="13122"/>
                </a:cubicBezTo>
                <a:cubicBezTo>
                  <a:pt x="16826" y="13104"/>
                  <a:pt x="16833" y="13096"/>
                  <a:pt x="16892" y="13097"/>
                </a:cubicBezTo>
              </a:path>
              <a:path w="7839" h="2680">
                <a:moveTo>
                  <a:pt x="16446" y="13469"/>
                </a:moveTo>
                <a:cubicBezTo>
                  <a:pt x="16468" y="13390"/>
                  <a:pt x="16559" y="13346"/>
                  <a:pt x="16644" y="13419"/>
                </a:cubicBezTo>
                <a:cubicBezTo>
                  <a:pt x="16709" y="13475"/>
                  <a:pt x="16663" y="13570"/>
                  <a:pt x="16619" y="13618"/>
                </a:cubicBezTo>
                <a:cubicBezTo>
                  <a:pt x="16603" y="13634"/>
                  <a:pt x="16586" y="13651"/>
                  <a:pt x="16570" y="136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the practice worksheet started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21:39Z</dcterms:created>
  <dc:creator>Brian McGrath</dc:creator>
  <dc:description/>
  <dc:language>en-US</dc:language>
  <cp:lastModifiedBy>deanne elizabeth mcgrath</cp:lastModifiedBy>
  <dcterms:modified xsi:type="dcterms:W3CDTF">2010-11-08T17:57:57Z</dcterms:modified>
  <cp:revision>3</cp:revision>
  <dc:subject/>
  <dc:title>Warm-up</dc:title>
</cp:coreProperties>
</file>